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255-852C-4DEC-9142-7C7B85C1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78A-5961-4896-828F-C332C94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82D-5293-4CAB-9C76-EC88BC3B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D32-B4AB-4EB3-B135-5D978986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104-834F-48FC-BDE4-8728B0CF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5CC-7D62-4009-B327-627C38FB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9F3-3146-486A-B844-115C6F2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29B-E7B9-43A2-9D2C-E6A7AC20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2B0-03B1-4B95-B84C-CEE36275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749-5371-413E-8C86-EAE1BAF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8FD-1903-45FA-97CB-496B15C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AF-6423-4B15-B681-99E2C3B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6B49-BF82-4F10-B9A9-B8B755EB5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out your review for tomorrow’s test, your notebook and pencil for a game we will be playing to help us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p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   x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19920" y="3809880"/>
          <a:ext cx="2742480" cy="2343240"/>
        </p:xfrm>
        <a:graphic>
          <a:graphicData uri="http://schemas.openxmlformats.org/drawingml/2006/table">
            <a:tbl>
              <a:tblPr/>
              <a:tblGrid>
                <a:gridCol w="1373040"/>
                <a:gridCol w="136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411360" y="1677960"/>
            <a:ext cx="1982880" cy="385920"/>
          </a:xfrm>
          <a:custGeom>
            <a:avLst/>
            <a:gdLst/>
            <a:ahLst/>
            <a:rect l="l" t="t" r="r" b="b"/>
            <a:pathLst>
              <a:path w="5508" h="1068">
                <a:moveTo>
                  <a:pt x="9475" y="4713"/>
                </a:moveTo>
                <a:cubicBezTo>
                  <a:pt x="9475" y="4812"/>
                  <a:pt x="9451" y="4930"/>
                  <a:pt x="9500" y="5011"/>
                </a:cubicBezTo>
                <a:cubicBezTo>
                  <a:pt x="9742" y="4960"/>
                  <a:pt x="9973" y="4961"/>
                  <a:pt x="10220" y="4961"/>
                </a:cubicBezTo>
                <a:cubicBezTo>
                  <a:pt x="10357" y="4961"/>
                  <a:pt x="10463" y="4999"/>
                  <a:pt x="10592" y="5011"/>
                </a:cubicBezTo>
                <a:cubicBezTo>
                  <a:pt x="10600" y="4894"/>
                  <a:pt x="10622" y="4821"/>
                  <a:pt x="10666" y="4713"/>
                </a:cubicBezTo>
              </a:path>
              <a:path w="5508" h="1068">
                <a:moveTo>
                  <a:pt x="9773" y="5011"/>
                </a:moveTo>
                <a:cubicBezTo>
                  <a:pt x="9833" y="5017"/>
                  <a:pt x="9986" y="5025"/>
                  <a:pt x="9996" y="5085"/>
                </a:cubicBezTo>
                <a:cubicBezTo>
                  <a:pt x="10018" y="5220"/>
                  <a:pt x="9949" y="5200"/>
                  <a:pt x="9847" y="5234"/>
                </a:cubicBezTo>
                <a:cubicBezTo>
                  <a:pt x="9941" y="5240"/>
                  <a:pt x="9986" y="5246"/>
                  <a:pt x="10071" y="5283"/>
                </a:cubicBezTo>
                <a:cubicBezTo>
                  <a:pt x="10028" y="5426"/>
                  <a:pt x="9905" y="5416"/>
                  <a:pt x="9748" y="5432"/>
                </a:cubicBezTo>
              </a:path>
              <a:path w="5508" h="1068">
                <a:moveTo>
                  <a:pt x="10393" y="5135"/>
                </a:moveTo>
                <a:cubicBezTo>
                  <a:pt x="10303" y="5225"/>
                  <a:pt x="10273" y="5246"/>
                  <a:pt x="10269" y="5333"/>
                </a:cubicBezTo>
                <a:cubicBezTo>
                  <a:pt x="10328" y="5400"/>
                  <a:pt x="10484" y="5508"/>
                  <a:pt x="10567" y="5383"/>
                </a:cubicBezTo>
                <a:cubicBezTo>
                  <a:pt x="10668" y="5232"/>
                  <a:pt x="10535" y="5192"/>
                  <a:pt x="10443" y="5135"/>
                </a:cubicBezTo>
              </a:path>
              <a:path w="5508" h="1068">
                <a:moveTo>
                  <a:pt x="11112" y="5259"/>
                </a:moveTo>
                <a:cubicBezTo>
                  <a:pt x="11238" y="5240"/>
                  <a:pt x="11312" y="5232"/>
                  <a:pt x="11435" y="5259"/>
                </a:cubicBezTo>
              </a:path>
              <a:path w="5508" h="1068">
                <a:moveTo>
                  <a:pt x="11435" y="5011"/>
                </a:moveTo>
                <a:lnTo>
                  <a:pt x="11435" y="5011"/>
                </a:lnTo>
              </a:path>
              <a:path w="5508" h="1068">
                <a:moveTo>
                  <a:pt x="11410" y="5407"/>
                </a:moveTo>
                <a:lnTo>
                  <a:pt x="11410" y="5407"/>
                </a:lnTo>
              </a:path>
              <a:path w="5508" h="1068">
                <a:moveTo>
                  <a:pt x="12154" y="4986"/>
                </a:moveTo>
                <a:cubicBezTo>
                  <a:pt x="12043" y="4993"/>
                  <a:pt x="11947" y="4982"/>
                  <a:pt x="11881" y="5060"/>
                </a:cubicBezTo>
                <a:cubicBezTo>
                  <a:pt x="11945" y="5205"/>
                  <a:pt x="12065" y="5088"/>
                  <a:pt x="12229" y="5159"/>
                </a:cubicBezTo>
                <a:cubicBezTo>
                  <a:pt x="12280" y="5211"/>
                  <a:pt x="12297" y="5230"/>
                  <a:pt x="12303" y="5283"/>
                </a:cubicBezTo>
                <a:cubicBezTo>
                  <a:pt x="12200" y="5313"/>
                  <a:pt x="12112" y="5327"/>
                  <a:pt x="12005" y="5333"/>
                </a:cubicBezTo>
              </a:path>
              <a:path w="5508" h="1068">
                <a:moveTo>
                  <a:pt x="12923" y="5135"/>
                </a:moveTo>
                <a:cubicBezTo>
                  <a:pt x="13021" y="5159"/>
                  <a:pt x="13054" y="5167"/>
                  <a:pt x="13122" y="5159"/>
                </a:cubicBezTo>
              </a:path>
              <a:path w="5508" h="1068">
                <a:moveTo>
                  <a:pt x="12948" y="5308"/>
                </a:moveTo>
                <a:cubicBezTo>
                  <a:pt x="13072" y="5308"/>
                  <a:pt x="13113" y="5308"/>
                  <a:pt x="13196" y="5308"/>
                </a:cubicBezTo>
              </a:path>
              <a:path w="5508" h="1068">
                <a:moveTo>
                  <a:pt x="13990" y="5060"/>
                </a:moveTo>
                <a:cubicBezTo>
                  <a:pt x="13978" y="5179"/>
                  <a:pt x="13940" y="5414"/>
                  <a:pt x="14089" y="5482"/>
                </a:cubicBezTo>
                <a:cubicBezTo>
                  <a:pt x="14197" y="5531"/>
                  <a:pt x="14463" y="5526"/>
                  <a:pt x="14511" y="5407"/>
                </a:cubicBezTo>
                <a:cubicBezTo>
                  <a:pt x="14539" y="5337"/>
                  <a:pt x="14406" y="5395"/>
                  <a:pt x="14362" y="5457"/>
                </a:cubicBezTo>
              </a:path>
              <a:path w="5508" h="1068">
                <a:moveTo>
                  <a:pt x="13891" y="5631"/>
                </a:moveTo>
                <a:cubicBezTo>
                  <a:pt x="14072" y="5691"/>
                  <a:pt x="14265" y="5764"/>
                  <a:pt x="14461" y="5730"/>
                </a:cubicBezTo>
                <a:cubicBezTo>
                  <a:pt x="14687" y="5691"/>
                  <a:pt x="14792" y="5538"/>
                  <a:pt x="14908" y="5358"/>
                </a:cubicBezTo>
                <a:cubicBezTo>
                  <a:pt x="15043" y="5150"/>
                  <a:pt x="14916" y="4981"/>
                  <a:pt x="14734" y="4837"/>
                </a:cubicBezTo>
                <a:cubicBezTo>
                  <a:pt x="14516" y="4665"/>
                  <a:pt x="14201" y="4570"/>
                  <a:pt x="13965" y="4762"/>
                </a:cubicBezTo>
                <a:cubicBezTo>
                  <a:pt x="13663" y="5007"/>
                  <a:pt x="13730" y="5168"/>
                  <a:pt x="13791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7280" y="2268360"/>
            <a:ext cx="473400" cy="704880"/>
          </a:xfrm>
          <a:custGeom>
            <a:avLst/>
            <a:gdLst/>
            <a:ahLst/>
            <a:rect l="l" t="t" r="r" b="b"/>
            <a:pathLst>
              <a:path w="1316" h="1961">
                <a:moveTo>
                  <a:pt x="6821" y="6573"/>
                </a:moveTo>
                <a:cubicBezTo>
                  <a:pt x="6857" y="6571"/>
                  <a:pt x="7181" y="6511"/>
                  <a:pt x="7193" y="6524"/>
                </a:cubicBezTo>
                <a:cubicBezTo>
                  <a:pt x="7334" y="6677"/>
                  <a:pt x="7228" y="6914"/>
                  <a:pt x="7193" y="7094"/>
                </a:cubicBezTo>
              </a:path>
              <a:path w="1316" h="1961">
                <a:moveTo>
                  <a:pt x="6648" y="6375"/>
                </a:moveTo>
                <a:cubicBezTo>
                  <a:pt x="6535" y="6633"/>
                  <a:pt x="6518" y="6802"/>
                  <a:pt x="6697" y="7045"/>
                </a:cubicBezTo>
                <a:cubicBezTo>
                  <a:pt x="6730" y="7078"/>
                  <a:pt x="6763" y="7111"/>
                  <a:pt x="6796" y="7144"/>
                </a:cubicBezTo>
              </a:path>
              <a:path w="1316" h="1961">
                <a:moveTo>
                  <a:pt x="7342" y="6300"/>
                </a:moveTo>
                <a:cubicBezTo>
                  <a:pt x="7546" y="6441"/>
                  <a:pt x="7599" y="6641"/>
                  <a:pt x="7590" y="6896"/>
                </a:cubicBezTo>
                <a:cubicBezTo>
                  <a:pt x="7566" y="7015"/>
                  <a:pt x="7560" y="7051"/>
                  <a:pt x="7516" y="7119"/>
                </a:cubicBezTo>
              </a:path>
              <a:path w="1316" h="1961">
                <a:moveTo>
                  <a:pt x="7565" y="8012"/>
                </a:moveTo>
                <a:cubicBezTo>
                  <a:pt x="7651" y="8025"/>
                  <a:pt x="7708" y="8046"/>
                  <a:pt x="7789" y="8086"/>
                </a:cubicBezTo>
              </a:path>
              <a:path w="1316" h="1961">
                <a:moveTo>
                  <a:pt x="7665" y="8235"/>
                </a:moveTo>
                <a:cubicBezTo>
                  <a:pt x="7777" y="8258"/>
                  <a:pt x="7808" y="8273"/>
                  <a:pt x="786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0800" y="2340000"/>
            <a:ext cx="1305000" cy="741240"/>
          </a:xfrm>
          <a:custGeom>
            <a:avLst/>
            <a:gdLst/>
            <a:ahLst/>
            <a:rect l="l" t="t" r="r" b="b"/>
            <a:pathLst>
              <a:path w="3622" h="2060">
                <a:moveTo>
                  <a:pt x="9054" y="7094"/>
                </a:moveTo>
                <a:cubicBezTo>
                  <a:pt x="9229" y="7108"/>
                  <a:pt x="9343" y="7184"/>
                  <a:pt x="9252" y="7392"/>
                </a:cubicBezTo>
                <a:cubicBezTo>
                  <a:pt x="9142" y="7643"/>
                  <a:pt x="8917" y="7613"/>
                  <a:pt x="8781" y="7466"/>
                </a:cubicBezTo>
                <a:cubicBezTo>
                  <a:pt x="8986" y="7351"/>
                  <a:pt x="9082" y="7381"/>
                  <a:pt x="9252" y="7541"/>
                </a:cubicBezTo>
              </a:path>
              <a:path w="3622" h="2060">
                <a:moveTo>
                  <a:pt x="9550" y="7020"/>
                </a:moveTo>
                <a:cubicBezTo>
                  <a:pt x="9473" y="7117"/>
                  <a:pt x="9455" y="7128"/>
                  <a:pt x="9426" y="7193"/>
                </a:cubicBezTo>
                <a:cubicBezTo>
                  <a:pt x="9514" y="7233"/>
                  <a:pt x="9735" y="7283"/>
                  <a:pt x="9723" y="7417"/>
                </a:cubicBezTo>
                <a:cubicBezTo>
                  <a:pt x="9679" y="7505"/>
                  <a:pt x="9675" y="7538"/>
                  <a:pt x="9599" y="7516"/>
                </a:cubicBezTo>
                <a:cubicBezTo>
                  <a:pt x="9590" y="7310"/>
                  <a:pt x="9647" y="7188"/>
                  <a:pt x="9723" y="6995"/>
                </a:cubicBezTo>
              </a:path>
              <a:path w="3622" h="2060">
                <a:moveTo>
                  <a:pt x="9029" y="7888"/>
                </a:moveTo>
                <a:cubicBezTo>
                  <a:pt x="9262" y="7845"/>
                  <a:pt x="9492" y="7789"/>
                  <a:pt x="9723" y="7739"/>
                </a:cubicBezTo>
              </a:path>
              <a:path w="3622" h="2060">
                <a:moveTo>
                  <a:pt x="9252" y="8186"/>
                </a:moveTo>
                <a:cubicBezTo>
                  <a:pt x="9398" y="8155"/>
                  <a:pt x="9405" y="8158"/>
                  <a:pt x="9525" y="8235"/>
                </a:cubicBezTo>
                <a:cubicBezTo>
                  <a:pt x="9472" y="8462"/>
                  <a:pt x="9378" y="8515"/>
                  <a:pt x="9153" y="8558"/>
                </a:cubicBezTo>
                <a:cubicBezTo>
                  <a:pt x="9164" y="8422"/>
                  <a:pt x="9299" y="8327"/>
                  <a:pt x="9475" y="8384"/>
                </a:cubicBezTo>
                <a:cubicBezTo>
                  <a:pt x="9527" y="8436"/>
                  <a:pt x="9544" y="8455"/>
                  <a:pt x="9550" y="8508"/>
                </a:cubicBezTo>
              </a:path>
              <a:path w="3622" h="2060">
                <a:moveTo>
                  <a:pt x="10195" y="7739"/>
                </a:moveTo>
                <a:cubicBezTo>
                  <a:pt x="10300" y="7739"/>
                  <a:pt x="10390" y="7715"/>
                  <a:pt x="10492" y="7689"/>
                </a:cubicBezTo>
              </a:path>
              <a:path w="3622" h="2060">
                <a:moveTo>
                  <a:pt x="10294" y="7938"/>
                </a:moveTo>
                <a:cubicBezTo>
                  <a:pt x="10369" y="7938"/>
                  <a:pt x="10419" y="7931"/>
                  <a:pt x="10492" y="7913"/>
                </a:cubicBezTo>
              </a:path>
              <a:path w="3622" h="2060">
                <a:moveTo>
                  <a:pt x="11212" y="7441"/>
                </a:moveTo>
                <a:cubicBezTo>
                  <a:pt x="11199" y="7638"/>
                  <a:pt x="11179" y="7806"/>
                  <a:pt x="11112" y="7987"/>
                </a:cubicBezTo>
              </a:path>
              <a:path w="3622" h="2060">
                <a:moveTo>
                  <a:pt x="11509" y="7342"/>
                </a:moveTo>
                <a:cubicBezTo>
                  <a:pt x="11467" y="7440"/>
                  <a:pt x="11460" y="7446"/>
                  <a:pt x="11460" y="7541"/>
                </a:cubicBezTo>
                <a:cubicBezTo>
                  <a:pt x="11556" y="7534"/>
                  <a:pt x="11640" y="7518"/>
                  <a:pt x="11733" y="7491"/>
                </a:cubicBezTo>
              </a:path>
              <a:path w="3622" h="2060">
                <a:moveTo>
                  <a:pt x="11757" y="7218"/>
                </a:moveTo>
                <a:cubicBezTo>
                  <a:pt x="11734" y="7416"/>
                  <a:pt x="11705" y="7615"/>
                  <a:pt x="11683" y="7813"/>
                </a:cubicBezTo>
              </a:path>
              <a:path w="3622" h="2060">
                <a:moveTo>
                  <a:pt x="11013" y="8235"/>
                </a:moveTo>
                <a:cubicBezTo>
                  <a:pt x="11327" y="8167"/>
                  <a:pt x="11564" y="8155"/>
                  <a:pt x="11857" y="7962"/>
                </a:cubicBezTo>
                <a:cubicBezTo>
                  <a:pt x="12202" y="7735"/>
                  <a:pt x="12560" y="7288"/>
                  <a:pt x="12353" y="6846"/>
                </a:cubicBezTo>
                <a:cubicBezTo>
                  <a:pt x="12144" y="6399"/>
                  <a:pt x="11468" y="6423"/>
                  <a:pt x="11112" y="6648"/>
                </a:cubicBezTo>
                <a:cubicBezTo>
                  <a:pt x="10510" y="7029"/>
                  <a:pt x="10659" y="7675"/>
                  <a:pt x="10939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94000" y="474984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6672" y="13196"/>
                </a:moveTo>
                <a:cubicBezTo>
                  <a:pt x="6664" y="13237"/>
                  <a:pt x="6656" y="13279"/>
                  <a:pt x="6648" y="13320"/>
                </a:cubicBezTo>
              </a:path>
              <a:path w="398" h="448">
                <a:moveTo>
                  <a:pt x="6672" y="13643"/>
                </a:moveTo>
                <a:cubicBezTo>
                  <a:pt x="6794" y="13595"/>
                  <a:pt x="6934" y="13581"/>
                  <a:pt x="7045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5040" y="4732200"/>
            <a:ext cx="3672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7516" y="13171"/>
                </a:moveTo>
                <a:cubicBezTo>
                  <a:pt x="7516" y="13154"/>
                  <a:pt x="7608" y="13697"/>
                  <a:pt x="7615" y="13767"/>
                </a:cubicBezTo>
                <a:cubicBezTo>
                  <a:pt x="7615" y="13825"/>
                  <a:pt x="7615" y="13882"/>
                  <a:pt x="7615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74960" y="4643280"/>
            <a:ext cx="152280" cy="312840"/>
          </a:xfrm>
          <a:custGeom>
            <a:avLst/>
            <a:gdLst/>
            <a:ahLst/>
            <a:rect l="l" t="t" r="r" b="b"/>
            <a:pathLst>
              <a:path w="423" h="870">
                <a:moveTo>
                  <a:pt x="8235" y="12898"/>
                </a:moveTo>
                <a:cubicBezTo>
                  <a:pt x="8092" y="12994"/>
                  <a:pt x="8046" y="13022"/>
                  <a:pt x="7987" y="13122"/>
                </a:cubicBezTo>
                <a:cubicBezTo>
                  <a:pt x="8092" y="13312"/>
                  <a:pt x="8409" y="13415"/>
                  <a:pt x="8409" y="13667"/>
                </a:cubicBezTo>
                <a:cubicBezTo>
                  <a:pt x="8392" y="13700"/>
                  <a:pt x="8376" y="13734"/>
                  <a:pt x="8359" y="13767"/>
                </a:cubicBezTo>
                <a:cubicBezTo>
                  <a:pt x="8160" y="13491"/>
                  <a:pt x="8269" y="13234"/>
                  <a:pt x="8384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3680" y="1197000"/>
            <a:ext cx="19656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1261" y="3373"/>
                </a:moveTo>
                <a:cubicBezTo>
                  <a:pt x="11253" y="3390"/>
                  <a:pt x="11245" y="3406"/>
                  <a:pt x="11237" y="3423"/>
                </a:cubicBezTo>
                <a:cubicBezTo>
                  <a:pt x="11256" y="3354"/>
                  <a:pt x="11281" y="3329"/>
                  <a:pt x="11361" y="3324"/>
                </a:cubicBezTo>
                <a:cubicBezTo>
                  <a:pt x="11437" y="3319"/>
                  <a:pt x="11472" y="3335"/>
                  <a:pt x="11509" y="3398"/>
                </a:cubicBezTo>
                <a:cubicBezTo>
                  <a:pt x="11477" y="3450"/>
                  <a:pt x="11439" y="3512"/>
                  <a:pt x="11385" y="3547"/>
                </a:cubicBezTo>
                <a:cubicBezTo>
                  <a:pt x="11331" y="3582"/>
                  <a:pt x="11263" y="3617"/>
                  <a:pt x="11212" y="3646"/>
                </a:cubicBezTo>
                <a:cubicBezTo>
                  <a:pt x="11155" y="3678"/>
                  <a:pt x="11056" y="3752"/>
                  <a:pt x="11038" y="3820"/>
                </a:cubicBezTo>
                <a:cubicBezTo>
                  <a:pt x="11038" y="3837"/>
                  <a:pt x="11038" y="3853"/>
                  <a:pt x="11038" y="3870"/>
                </a:cubicBezTo>
                <a:cubicBezTo>
                  <a:pt x="11079" y="3819"/>
                  <a:pt x="11133" y="3721"/>
                  <a:pt x="11212" y="3721"/>
                </a:cubicBezTo>
                <a:cubicBezTo>
                  <a:pt x="11305" y="3721"/>
                  <a:pt x="11299" y="3781"/>
                  <a:pt x="11361" y="3820"/>
                </a:cubicBezTo>
                <a:cubicBezTo>
                  <a:pt x="11449" y="3876"/>
                  <a:pt x="11501" y="3876"/>
                  <a:pt x="11584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(8 – 4) + 8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1/2 + p      when p = 58 1/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(4 + 1) - 1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0160" y="1741320"/>
            <a:ext cx="536760" cy="204840"/>
          </a:xfrm>
          <a:custGeom>
            <a:avLst/>
            <a:gdLst/>
            <a:ahLst/>
            <a:rect l="l" t="t" r="r" b="b"/>
            <a:pathLst>
              <a:path w="1489" h="571">
                <a:moveTo>
                  <a:pt x="8806" y="4911"/>
                </a:moveTo>
                <a:cubicBezTo>
                  <a:pt x="8806" y="5076"/>
                  <a:pt x="8806" y="5242"/>
                  <a:pt x="8806" y="5407"/>
                </a:cubicBezTo>
              </a:path>
              <a:path w="1489" h="571">
                <a:moveTo>
                  <a:pt x="9451" y="4837"/>
                </a:moveTo>
                <a:cubicBezTo>
                  <a:pt x="9417" y="4846"/>
                  <a:pt x="9246" y="4853"/>
                  <a:pt x="9227" y="4887"/>
                </a:cubicBezTo>
                <a:cubicBezTo>
                  <a:pt x="9209" y="4961"/>
                  <a:pt x="9201" y="4968"/>
                  <a:pt x="9203" y="5011"/>
                </a:cubicBezTo>
                <a:cubicBezTo>
                  <a:pt x="9424" y="5045"/>
                  <a:pt x="9535" y="5032"/>
                  <a:pt x="9699" y="5184"/>
                </a:cubicBezTo>
                <a:cubicBezTo>
                  <a:pt x="9580" y="5363"/>
                  <a:pt x="9484" y="5338"/>
                  <a:pt x="9277" y="5308"/>
                </a:cubicBezTo>
              </a:path>
              <a:path w="1489" h="571">
                <a:moveTo>
                  <a:pt x="10220" y="5035"/>
                </a:moveTo>
                <a:cubicBezTo>
                  <a:pt x="10243" y="5151"/>
                  <a:pt x="10249" y="5185"/>
                  <a:pt x="10269" y="5259"/>
                </a:cubicBezTo>
              </a:path>
              <a:path w="1489" h="571">
                <a:moveTo>
                  <a:pt x="10021" y="5110"/>
                </a:moveTo>
                <a:cubicBezTo>
                  <a:pt x="10144" y="5141"/>
                  <a:pt x="10201" y="5146"/>
                  <a:pt x="1029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8960" y="1625760"/>
            <a:ext cx="179280" cy="2761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1485" y="4713"/>
                </a:moveTo>
                <a:cubicBezTo>
                  <a:pt x="11437" y="4798"/>
                  <a:pt x="11412" y="4890"/>
                  <a:pt x="11385" y="4986"/>
                </a:cubicBezTo>
                <a:cubicBezTo>
                  <a:pt x="11535" y="5002"/>
                  <a:pt x="11655" y="4986"/>
                  <a:pt x="11807" y="4961"/>
                </a:cubicBezTo>
              </a:path>
              <a:path w="497" h="770">
                <a:moveTo>
                  <a:pt x="11881" y="4514"/>
                </a:moveTo>
                <a:cubicBezTo>
                  <a:pt x="11819" y="4756"/>
                  <a:pt x="11780" y="4988"/>
                  <a:pt x="11757" y="5234"/>
                </a:cubicBezTo>
                <a:cubicBezTo>
                  <a:pt x="11757" y="5250"/>
                  <a:pt x="11757" y="5267"/>
                  <a:pt x="11757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0080" y="1724040"/>
            <a:ext cx="1008000" cy="473040"/>
          </a:xfrm>
          <a:custGeom>
            <a:avLst/>
            <a:gdLst/>
            <a:ahLst/>
            <a:rect l="l" t="t" r="r" b="b"/>
            <a:pathLst>
              <a:path w="2804" h="1316">
                <a:moveTo>
                  <a:pt x="12526" y="4837"/>
                </a:moveTo>
                <a:cubicBezTo>
                  <a:pt x="12571" y="4944"/>
                  <a:pt x="12593" y="5019"/>
                  <a:pt x="12601" y="5135"/>
                </a:cubicBezTo>
              </a:path>
              <a:path w="2804" h="1316">
                <a:moveTo>
                  <a:pt x="12526" y="5035"/>
                </a:moveTo>
                <a:cubicBezTo>
                  <a:pt x="12631" y="5058"/>
                  <a:pt x="12694" y="5058"/>
                  <a:pt x="12799" y="5035"/>
                </a:cubicBezTo>
              </a:path>
              <a:path w="2804" h="1316">
                <a:moveTo>
                  <a:pt x="13618" y="4837"/>
                </a:moveTo>
                <a:cubicBezTo>
                  <a:pt x="13563" y="4825"/>
                  <a:pt x="13103" y="4820"/>
                  <a:pt x="13246" y="5011"/>
                </a:cubicBezTo>
                <a:cubicBezTo>
                  <a:pt x="13370" y="5085"/>
                  <a:pt x="13411" y="5110"/>
                  <a:pt x="13494" y="5159"/>
                </a:cubicBezTo>
                <a:cubicBezTo>
                  <a:pt x="13502" y="5176"/>
                  <a:pt x="13511" y="5192"/>
                  <a:pt x="13519" y="5209"/>
                </a:cubicBezTo>
                <a:cubicBezTo>
                  <a:pt x="13383" y="5104"/>
                  <a:pt x="13473" y="5049"/>
                  <a:pt x="13568" y="4911"/>
                </a:cubicBezTo>
              </a:path>
              <a:path w="2804" h="1316">
                <a:moveTo>
                  <a:pt x="13990" y="4887"/>
                </a:moveTo>
                <a:cubicBezTo>
                  <a:pt x="14046" y="5001"/>
                  <a:pt x="14073" y="5046"/>
                  <a:pt x="14139" y="5110"/>
                </a:cubicBezTo>
              </a:path>
              <a:path w="2804" h="1316">
                <a:moveTo>
                  <a:pt x="14213" y="4862"/>
                </a:moveTo>
                <a:cubicBezTo>
                  <a:pt x="14100" y="4998"/>
                  <a:pt x="14067" y="5034"/>
                  <a:pt x="14015" y="5135"/>
                </a:cubicBezTo>
              </a:path>
              <a:path w="2804" h="1316">
                <a:moveTo>
                  <a:pt x="14511" y="4787"/>
                </a:moveTo>
                <a:cubicBezTo>
                  <a:pt x="14536" y="4919"/>
                  <a:pt x="14551" y="5050"/>
                  <a:pt x="14560" y="5184"/>
                </a:cubicBezTo>
                <a:cubicBezTo>
                  <a:pt x="14607" y="5177"/>
                  <a:pt x="14844" y="5116"/>
                  <a:pt x="14784" y="5011"/>
                </a:cubicBezTo>
                <a:cubicBezTo>
                  <a:pt x="14713" y="5045"/>
                  <a:pt x="14678" y="5067"/>
                  <a:pt x="14635" y="5110"/>
                </a:cubicBezTo>
              </a:path>
              <a:path w="2804" h="1316">
                <a:moveTo>
                  <a:pt x="13767" y="5283"/>
                </a:moveTo>
                <a:cubicBezTo>
                  <a:pt x="13851" y="5404"/>
                  <a:pt x="14019" y="5335"/>
                  <a:pt x="14163" y="5333"/>
                </a:cubicBezTo>
                <a:cubicBezTo>
                  <a:pt x="14347" y="5330"/>
                  <a:pt x="14491" y="5434"/>
                  <a:pt x="14536" y="5234"/>
                </a:cubicBezTo>
                <a:cubicBezTo>
                  <a:pt x="14536" y="5226"/>
                  <a:pt x="14536" y="5217"/>
                  <a:pt x="14536" y="5209"/>
                </a:cubicBezTo>
              </a:path>
              <a:path w="2804" h="1316">
                <a:moveTo>
                  <a:pt x="13692" y="5730"/>
                </a:moveTo>
                <a:cubicBezTo>
                  <a:pt x="13637" y="5948"/>
                  <a:pt x="13857" y="5839"/>
                  <a:pt x="13990" y="5804"/>
                </a:cubicBezTo>
              </a:path>
              <a:path w="2804" h="1316">
                <a:moveTo>
                  <a:pt x="14039" y="5705"/>
                </a:moveTo>
                <a:cubicBezTo>
                  <a:pt x="13982" y="5845"/>
                  <a:pt x="13935" y="5955"/>
                  <a:pt x="13915" y="6102"/>
                </a:cubicBezTo>
              </a:path>
              <a:path w="2804" h="1316">
                <a:moveTo>
                  <a:pt x="14362" y="5705"/>
                </a:moveTo>
                <a:cubicBezTo>
                  <a:pt x="14279" y="5715"/>
                  <a:pt x="14194" y="5748"/>
                  <a:pt x="14263" y="5854"/>
                </a:cubicBezTo>
                <a:cubicBezTo>
                  <a:pt x="14339" y="5930"/>
                  <a:pt x="14364" y="5956"/>
                  <a:pt x="14387" y="6028"/>
                </a:cubicBezTo>
                <a:cubicBezTo>
                  <a:pt x="14359" y="6084"/>
                  <a:pt x="14343" y="6103"/>
                  <a:pt x="14288" y="6102"/>
                </a:cubicBezTo>
                <a:cubicBezTo>
                  <a:pt x="14229" y="5973"/>
                  <a:pt x="14272" y="5896"/>
                  <a:pt x="14337" y="5755"/>
                </a:cubicBezTo>
              </a:path>
              <a:path w="2804" h="1316">
                <a:moveTo>
                  <a:pt x="15032" y="5730"/>
                </a:moveTo>
                <a:cubicBezTo>
                  <a:pt x="15138" y="5737"/>
                  <a:pt x="15225" y="5753"/>
                  <a:pt x="15329" y="5779"/>
                </a:cubicBezTo>
              </a:path>
              <a:path w="2804" h="1316">
                <a:moveTo>
                  <a:pt x="15081" y="5879"/>
                </a:moveTo>
                <a:cubicBezTo>
                  <a:pt x="15156" y="5879"/>
                  <a:pt x="15197" y="5879"/>
                  <a:pt x="15255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9000" y="1839960"/>
            <a:ext cx="527040" cy="411120"/>
          </a:xfrm>
          <a:custGeom>
            <a:avLst/>
            <a:gdLst/>
            <a:ahLst/>
            <a:rect l="l" t="t" r="r" b="b"/>
            <a:pathLst>
              <a:path w="1464" h="1142">
                <a:moveTo>
                  <a:pt x="16123" y="5581"/>
                </a:moveTo>
                <a:cubicBezTo>
                  <a:pt x="16094" y="5723"/>
                  <a:pt x="15989" y="5940"/>
                  <a:pt x="16148" y="6052"/>
                </a:cubicBezTo>
                <a:cubicBezTo>
                  <a:pt x="16344" y="6191"/>
                  <a:pt x="16487" y="5982"/>
                  <a:pt x="16520" y="5829"/>
                </a:cubicBezTo>
                <a:cubicBezTo>
                  <a:pt x="16402" y="5908"/>
                  <a:pt x="16396" y="5936"/>
                  <a:pt x="16371" y="6077"/>
                </a:cubicBezTo>
              </a:path>
              <a:path w="1464" h="1142">
                <a:moveTo>
                  <a:pt x="16694" y="5556"/>
                </a:moveTo>
                <a:cubicBezTo>
                  <a:pt x="16813" y="5566"/>
                  <a:pt x="16898" y="5567"/>
                  <a:pt x="17016" y="5556"/>
                </a:cubicBezTo>
                <a:cubicBezTo>
                  <a:pt x="17039" y="5669"/>
                  <a:pt x="17009" y="5777"/>
                  <a:pt x="16991" y="5904"/>
                </a:cubicBezTo>
              </a:path>
              <a:path w="1464" h="1142">
                <a:moveTo>
                  <a:pt x="16024" y="6201"/>
                </a:moveTo>
                <a:cubicBezTo>
                  <a:pt x="16391" y="6249"/>
                  <a:pt x="16863" y="6278"/>
                  <a:pt x="17214" y="6102"/>
                </a:cubicBezTo>
                <a:cubicBezTo>
                  <a:pt x="17627" y="5895"/>
                  <a:pt x="17519" y="5383"/>
                  <a:pt x="17140" y="5209"/>
                </a:cubicBezTo>
                <a:cubicBezTo>
                  <a:pt x="16414" y="4875"/>
                  <a:pt x="16148" y="5332"/>
                  <a:pt x="1604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3840" y="2071800"/>
            <a:ext cx="1440" cy="169920"/>
          </a:xfrm>
          <a:custGeom>
            <a:avLst/>
            <a:gdLst/>
            <a:ahLst/>
            <a:rect l="l" t="t" r="r" b="b"/>
            <a:pathLst>
              <a:path w="1" h="472">
                <a:moveTo>
                  <a:pt x="10096" y="5755"/>
                </a:moveTo>
                <a:cubicBezTo>
                  <a:pt x="10096" y="5912"/>
                  <a:pt x="10096" y="6069"/>
                  <a:pt x="1009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51200" y="2089080"/>
            <a:ext cx="3031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10468" y="5854"/>
                </a:moveTo>
                <a:cubicBezTo>
                  <a:pt x="10451" y="5887"/>
                  <a:pt x="10435" y="5920"/>
                  <a:pt x="10418" y="5953"/>
                </a:cubicBezTo>
                <a:cubicBezTo>
                  <a:pt x="10457" y="5976"/>
                  <a:pt x="10790" y="6129"/>
                  <a:pt x="10666" y="6226"/>
                </a:cubicBezTo>
                <a:cubicBezTo>
                  <a:pt x="10625" y="6234"/>
                  <a:pt x="10583" y="6243"/>
                  <a:pt x="10542" y="6251"/>
                </a:cubicBezTo>
              </a:path>
              <a:path w="844" h="448">
                <a:moveTo>
                  <a:pt x="10492" y="5829"/>
                </a:moveTo>
                <a:cubicBezTo>
                  <a:pt x="10675" y="5829"/>
                  <a:pt x="10741" y="5828"/>
                  <a:pt x="10864" y="5804"/>
                </a:cubicBezTo>
              </a:path>
              <a:path w="844" h="448">
                <a:moveTo>
                  <a:pt x="11212" y="6052"/>
                </a:moveTo>
                <a:cubicBezTo>
                  <a:pt x="11220" y="6077"/>
                  <a:pt x="11229" y="6102"/>
                  <a:pt x="11237" y="6127"/>
                </a:cubicBezTo>
              </a:path>
              <a:path w="844" h="448">
                <a:moveTo>
                  <a:pt x="11112" y="6028"/>
                </a:moveTo>
                <a:cubicBezTo>
                  <a:pt x="11162" y="6020"/>
                  <a:pt x="11211" y="6011"/>
                  <a:pt x="11261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05160" y="2081160"/>
            <a:ext cx="63720" cy="125640"/>
          </a:xfrm>
          <a:custGeom>
            <a:avLst/>
            <a:gdLst/>
            <a:ahLst/>
            <a:rect l="l" t="t" r="r" b="b"/>
            <a:pathLst>
              <a:path w="175" h="349">
                <a:moveTo>
                  <a:pt x="11683" y="5829"/>
                </a:moveTo>
                <a:cubicBezTo>
                  <a:pt x="11694" y="5980"/>
                  <a:pt x="11668" y="5949"/>
                  <a:pt x="11807" y="6003"/>
                </a:cubicBezTo>
              </a:path>
              <a:path w="175" h="349">
                <a:moveTo>
                  <a:pt x="11857" y="5779"/>
                </a:moveTo>
                <a:cubicBezTo>
                  <a:pt x="11857" y="5961"/>
                  <a:pt x="11857" y="6011"/>
                  <a:pt x="1185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46720" y="2081160"/>
            <a:ext cx="107640" cy="88920"/>
          </a:xfrm>
          <a:custGeom>
            <a:avLst/>
            <a:gdLst/>
            <a:ahLst/>
            <a:rect l="l" t="t" r="r" b="b"/>
            <a:pathLst>
              <a:path w="298" h="250">
                <a:moveTo>
                  <a:pt x="12477" y="5928"/>
                </a:moveTo>
                <a:cubicBezTo>
                  <a:pt x="12433" y="5666"/>
                  <a:pt x="12481" y="5890"/>
                  <a:pt x="12502" y="6028"/>
                </a:cubicBezTo>
              </a:path>
              <a:path w="298" h="250">
                <a:moveTo>
                  <a:pt x="12353" y="5904"/>
                </a:moveTo>
                <a:cubicBezTo>
                  <a:pt x="12502" y="5904"/>
                  <a:pt x="12551" y="5904"/>
                  <a:pt x="12650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87800" y="2374920"/>
            <a:ext cx="27756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9277" y="6598"/>
                </a:moveTo>
                <a:cubicBezTo>
                  <a:pt x="9196" y="6598"/>
                  <a:pt x="9101" y="6636"/>
                  <a:pt x="9029" y="6672"/>
                </a:cubicBezTo>
                <a:cubicBezTo>
                  <a:pt x="8999" y="6702"/>
                  <a:pt x="8988" y="6716"/>
                  <a:pt x="8979" y="6747"/>
                </a:cubicBezTo>
                <a:cubicBezTo>
                  <a:pt x="9044" y="6790"/>
                  <a:pt x="9163" y="6795"/>
                  <a:pt x="9203" y="6871"/>
                </a:cubicBezTo>
                <a:cubicBezTo>
                  <a:pt x="9203" y="6929"/>
                  <a:pt x="9203" y="6954"/>
                  <a:pt x="9203" y="6995"/>
                </a:cubicBezTo>
                <a:cubicBezTo>
                  <a:pt x="9053" y="7006"/>
                  <a:pt x="8991" y="7013"/>
                  <a:pt x="8855" y="6945"/>
                </a:cubicBezTo>
              </a:path>
              <a:path w="770" h="472">
                <a:moveTo>
                  <a:pt x="9575" y="6648"/>
                </a:moveTo>
                <a:cubicBezTo>
                  <a:pt x="9517" y="6673"/>
                  <a:pt x="9459" y="6696"/>
                  <a:pt x="9401" y="6722"/>
                </a:cubicBezTo>
                <a:cubicBezTo>
                  <a:pt x="9448" y="6792"/>
                  <a:pt x="9669" y="6946"/>
                  <a:pt x="9599" y="7020"/>
                </a:cubicBezTo>
                <a:cubicBezTo>
                  <a:pt x="9503" y="7067"/>
                  <a:pt x="9474" y="7084"/>
                  <a:pt x="9401" y="7069"/>
                </a:cubicBezTo>
                <a:cubicBezTo>
                  <a:pt x="9445" y="6948"/>
                  <a:pt x="9516" y="6835"/>
                  <a:pt x="955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25920" y="2357280"/>
            <a:ext cx="20484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10344" y="6548"/>
                </a:moveTo>
                <a:cubicBezTo>
                  <a:pt x="10367" y="6649"/>
                  <a:pt x="10386" y="6743"/>
                  <a:pt x="10393" y="6846"/>
                </a:cubicBezTo>
              </a:path>
              <a:path w="571" h="770">
                <a:moveTo>
                  <a:pt x="10071" y="6945"/>
                </a:moveTo>
                <a:cubicBezTo>
                  <a:pt x="10223" y="6915"/>
                  <a:pt x="10365" y="6885"/>
                  <a:pt x="10517" y="6871"/>
                </a:cubicBezTo>
              </a:path>
              <a:path w="571" h="770">
                <a:moveTo>
                  <a:pt x="10344" y="7069"/>
                </a:moveTo>
                <a:cubicBezTo>
                  <a:pt x="10410" y="7069"/>
                  <a:pt x="10476" y="7069"/>
                  <a:pt x="10542" y="7069"/>
                </a:cubicBezTo>
                <a:cubicBezTo>
                  <a:pt x="10488" y="7186"/>
                  <a:pt x="10444" y="7225"/>
                  <a:pt x="10344" y="7317"/>
                </a:cubicBezTo>
                <a:cubicBezTo>
                  <a:pt x="10448" y="7317"/>
                  <a:pt x="10538" y="7305"/>
                  <a:pt x="1064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2795760"/>
            <a:ext cx="606600" cy="2584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10740" y="7962"/>
                </a:moveTo>
                <a:cubicBezTo>
                  <a:pt x="10864" y="7962"/>
                  <a:pt x="10988" y="7962"/>
                  <a:pt x="11112" y="7962"/>
                </a:cubicBezTo>
              </a:path>
              <a:path w="1688" h="720">
                <a:moveTo>
                  <a:pt x="10765" y="8062"/>
                </a:moveTo>
                <a:cubicBezTo>
                  <a:pt x="10875" y="8077"/>
                  <a:pt x="10976" y="8086"/>
                  <a:pt x="11088" y="8086"/>
                </a:cubicBezTo>
              </a:path>
              <a:path w="1688" h="720">
                <a:moveTo>
                  <a:pt x="11559" y="7938"/>
                </a:moveTo>
                <a:cubicBezTo>
                  <a:pt x="11488" y="8043"/>
                  <a:pt x="11370" y="8243"/>
                  <a:pt x="11410" y="8384"/>
                </a:cubicBezTo>
                <a:cubicBezTo>
                  <a:pt x="11456" y="8543"/>
                  <a:pt x="11695" y="8416"/>
                  <a:pt x="11757" y="8359"/>
                </a:cubicBezTo>
                <a:cubicBezTo>
                  <a:pt x="11846" y="8277"/>
                  <a:pt x="11790" y="8252"/>
                  <a:pt x="11733" y="8186"/>
                </a:cubicBezTo>
                <a:cubicBezTo>
                  <a:pt x="11605" y="8211"/>
                  <a:pt x="11597" y="8296"/>
                  <a:pt x="11584" y="8409"/>
                </a:cubicBezTo>
                <a:cubicBezTo>
                  <a:pt x="11584" y="8425"/>
                  <a:pt x="11584" y="8442"/>
                  <a:pt x="11584" y="8458"/>
                </a:cubicBezTo>
              </a:path>
              <a:path w="1688" h="720">
                <a:moveTo>
                  <a:pt x="12005" y="7962"/>
                </a:moveTo>
                <a:cubicBezTo>
                  <a:pt x="12027" y="8028"/>
                  <a:pt x="12000" y="8170"/>
                  <a:pt x="12080" y="8186"/>
                </a:cubicBezTo>
                <a:cubicBezTo>
                  <a:pt x="12197" y="8209"/>
                  <a:pt x="12317" y="8166"/>
                  <a:pt x="12427" y="8136"/>
                </a:cubicBezTo>
              </a:path>
              <a:path w="1688" h="720">
                <a:moveTo>
                  <a:pt x="12378" y="7764"/>
                </a:moveTo>
                <a:cubicBezTo>
                  <a:pt x="12345" y="7984"/>
                  <a:pt x="12328" y="8187"/>
                  <a:pt x="12328" y="8409"/>
                </a:cubicBezTo>
                <a:cubicBezTo>
                  <a:pt x="12328" y="8434"/>
                  <a:pt x="12328" y="8458"/>
                  <a:pt x="1232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1080" y="3768840"/>
            <a:ext cx="1000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5304" y="10468"/>
                </a:moveTo>
                <a:cubicBezTo>
                  <a:pt x="15395" y="10490"/>
                  <a:pt x="15418" y="10498"/>
                  <a:pt x="15478" y="10492"/>
                </a:cubicBezTo>
              </a:path>
              <a:path w="274" h="249">
                <a:moveTo>
                  <a:pt x="15255" y="10691"/>
                </a:moveTo>
                <a:cubicBezTo>
                  <a:pt x="15348" y="10700"/>
                  <a:pt x="15434" y="10716"/>
                  <a:pt x="15528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13080" y="399096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1410" y="11112"/>
                </a:moveTo>
                <a:cubicBezTo>
                  <a:pt x="11361" y="11105"/>
                  <a:pt x="11174" y="11071"/>
                  <a:pt x="11137" y="11137"/>
                </a:cubicBezTo>
                <a:cubicBezTo>
                  <a:pt x="11096" y="11209"/>
                  <a:pt x="11104" y="11256"/>
                  <a:pt x="11137" y="11311"/>
                </a:cubicBezTo>
                <a:cubicBezTo>
                  <a:pt x="11225" y="11284"/>
                  <a:pt x="11596" y="11179"/>
                  <a:pt x="11485" y="11435"/>
                </a:cubicBezTo>
                <a:cubicBezTo>
                  <a:pt x="11388" y="11531"/>
                  <a:pt x="11360" y="11563"/>
                  <a:pt x="11261" y="11559"/>
                </a:cubicBezTo>
              </a:path>
              <a:path w="2283" h="894">
                <a:moveTo>
                  <a:pt x="9203" y="11112"/>
                </a:moveTo>
                <a:cubicBezTo>
                  <a:pt x="9327" y="11136"/>
                  <a:pt x="9451" y="11159"/>
                  <a:pt x="9575" y="11187"/>
                </a:cubicBezTo>
                <a:cubicBezTo>
                  <a:pt x="9561" y="11369"/>
                  <a:pt x="9521" y="11516"/>
                  <a:pt x="9451" y="11683"/>
                </a:cubicBezTo>
              </a:path>
              <a:path w="2283" h="894">
                <a:moveTo>
                  <a:pt x="10021" y="11361"/>
                </a:moveTo>
                <a:cubicBezTo>
                  <a:pt x="10130" y="11491"/>
                  <a:pt x="10153" y="11527"/>
                  <a:pt x="10244" y="11584"/>
                </a:cubicBezTo>
              </a:path>
              <a:path w="2283" h="894">
                <a:moveTo>
                  <a:pt x="10244" y="11311"/>
                </a:moveTo>
                <a:cubicBezTo>
                  <a:pt x="10152" y="11473"/>
                  <a:pt x="10127" y="11520"/>
                  <a:pt x="10046" y="11609"/>
                </a:cubicBezTo>
              </a:path>
              <a:path w="2283" h="894">
                <a:moveTo>
                  <a:pt x="9723" y="11881"/>
                </a:moveTo>
                <a:cubicBezTo>
                  <a:pt x="9861" y="12089"/>
                  <a:pt x="10203" y="11884"/>
                  <a:pt x="10492" y="11881"/>
                </a:cubicBezTo>
                <a:cubicBezTo>
                  <a:pt x="10720" y="11879"/>
                  <a:pt x="10827" y="12029"/>
                  <a:pt x="10939" y="11807"/>
                </a:cubicBezTo>
                <a:cubicBezTo>
                  <a:pt x="10947" y="11782"/>
                  <a:pt x="10956" y="11758"/>
                  <a:pt x="10964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8920" y="4419720"/>
            <a:ext cx="16020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9996" y="12328"/>
                </a:moveTo>
                <a:cubicBezTo>
                  <a:pt x="10105" y="12306"/>
                  <a:pt x="10555" y="12213"/>
                  <a:pt x="10244" y="12427"/>
                </a:cubicBezTo>
                <a:cubicBezTo>
                  <a:pt x="10211" y="12444"/>
                  <a:pt x="10178" y="12460"/>
                  <a:pt x="10145" y="12477"/>
                </a:cubicBezTo>
                <a:cubicBezTo>
                  <a:pt x="10186" y="12481"/>
                  <a:pt x="10580" y="12543"/>
                  <a:pt x="10418" y="12650"/>
                </a:cubicBezTo>
                <a:cubicBezTo>
                  <a:pt x="10360" y="12667"/>
                  <a:pt x="10302" y="12683"/>
                  <a:pt x="1024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7120" y="439416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0740" y="12254"/>
                </a:moveTo>
                <a:cubicBezTo>
                  <a:pt x="10740" y="12452"/>
                  <a:pt x="10789" y="12369"/>
                  <a:pt x="10939" y="12502"/>
                </a:cubicBezTo>
                <a:cubicBezTo>
                  <a:pt x="11090" y="12636"/>
                  <a:pt x="11007" y="12636"/>
                  <a:pt x="10889" y="12675"/>
                </a:cubicBezTo>
              </a:path>
              <a:path w="274" h="472">
                <a:moveTo>
                  <a:pt x="10964" y="12204"/>
                </a:moveTo>
                <a:lnTo>
                  <a:pt x="10964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24240" y="4438800"/>
            <a:ext cx="98640" cy="17280"/>
          </a:xfrm>
          <a:custGeom>
            <a:avLst/>
            <a:gdLst/>
            <a:ahLst/>
            <a:rect l="l" t="t" r="r" b="b"/>
            <a:pathLst>
              <a:path w="273" h="51">
                <a:moveTo>
                  <a:pt x="11733" y="12328"/>
                </a:moveTo>
                <a:cubicBezTo>
                  <a:pt x="11832" y="12385"/>
                  <a:pt x="11884" y="12372"/>
                  <a:pt x="1200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0800" y="4071960"/>
            <a:ext cx="339480" cy="455760"/>
          </a:xfrm>
          <a:custGeom>
            <a:avLst/>
            <a:gdLst/>
            <a:ahLst/>
            <a:rect l="l" t="t" r="r" b="b"/>
            <a:pathLst>
              <a:path w="944" h="1266">
                <a:moveTo>
                  <a:pt x="12030" y="11485"/>
                </a:moveTo>
                <a:cubicBezTo>
                  <a:pt x="12138" y="11455"/>
                  <a:pt x="12236" y="11460"/>
                  <a:pt x="12353" y="11460"/>
                </a:cubicBezTo>
              </a:path>
              <a:path w="944" h="1266">
                <a:moveTo>
                  <a:pt x="12675" y="11311"/>
                </a:moveTo>
                <a:cubicBezTo>
                  <a:pt x="12675" y="11452"/>
                  <a:pt x="12675" y="11510"/>
                  <a:pt x="12675" y="11609"/>
                </a:cubicBezTo>
              </a:path>
              <a:path w="944" h="1266">
                <a:moveTo>
                  <a:pt x="12303" y="12303"/>
                </a:moveTo>
                <a:cubicBezTo>
                  <a:pt x="12327" y="12444"/>
                  <a:pt x="12333" y="12486"/>
                  <a:pt x="12353" y="12576"/>
                </a:cubicBezTo>
              </a:path>
              <a:path w="944" h="1266">
                <a:moveTo>
                  <a:pt x="12650" y="12303"/>
                </a:moveTo>
                <a:cubicBezTo>
                  <a:pt x="12666" y="12420"/>
                  <a:pt x="12775" y="12761"/>
                  <a:pt x="12948" y="12502"/>
                </a:cubicBezTo>
                <a:cubicBezTo>
                  <a:pt x="12974" y="12373"/>
                  <a:pt x="12979" y="12329"/>
                  <a:pt x="12874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4054320"/>
            <a:ext cx="125280" cy="115920"/>
          </a:xfrm>
          <a:custGeom>
            <a:avLst/>
            <a:gdLst/>
            <a:ahLst/>
            <a:rect l="l" t="t" r="r" b="b"/>
            <a:pathLst>
              <a:path w="349" h="324">
                <a:moveTo>
                  <a:pt x="13072" y="11261"/>
                </a:moveTo>
                <a:cubicBezTo>
                  <a:pt x="13051" y="11368"/>
                  <a:pt x="13051" y="11745"/>
                  <a:pt x="13295" y="11559"/>
                </a:cubicBezTo>
                <a:cubicBezTo>
                  <a:pt x="13368" y="11438"/>
                  <a:pt x="13394" y="11400"/>
                  <a:pt x="1332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1920" y="3679920"/>
            <a:ext cx="438120" cy="214200"/>
          </a:xfrm>
          <a:custGeom>
            <a:avLst/>
            <a:gdLst/>
            <a:ahLst/>
            <a:rect l="l" t="t" r="r" b="b"/>
            <a:pathLst>
              <a:path w="1216" h="596">
                <a:moveTo>
                  <a:pt x="16520" y="10220"/>
                </a:moveTo>
                <a:cubicBezTo>
                  <a:pt x="16661" y="10255"/>
                  <a:pt x="16978" y="10400"/>
                  <a:pt x="16768" y="10592"/>
                </a:cubicBezTo>
                <a:cubicBezTo>
                  <a:pt x="16621" y="10727"/>
                  <a:pt x="16531" y="10659"/>
                  <a:pt x="16421" y="10567"/>
                </a:cubicBezTo>
                <a:cubicBezTo>
                  <a:pt x="16654" y="10439"/>
                  <a:pt x="16749" y="10467"/>
                  <a:pt x="16917" y="10691"/>
                </a:cubicBezTo>
              </a:path>
              <a:path w="1216" h="596">
                <a:moveTo>
                  <a:pt x="17462" y="10244"/>
                </a:moveTo>
                <a:cubicBezTo>
                  <a:pt x="17242" y="10255"/>
                  <a:pt x="17204" y="10260"/>
                  <a:pt x="17115" y="10468"/>
                </a:cubicBezTo>
                <a:cubicBezTo>
                  <a:pt x="17286" y="10414"/>
                  <a:pt x="17598" y="10252"/>
                  <a:pt x="17636" y="10567"/>
                </a:cubicBezTo>
                <a:cubicBezTo>
                  <a:pt x="17668" y="10830"/>
                  <a:pt x="17380" y="10785"/>
                  <a:pt x="1723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.28 + 18.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he correct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2 less than the numbe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) x – 5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.) 52 – x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.) x + 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27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13" y="7590"/>
                </a:moveTo>
                <a:lnTo>
                  <a:pt x="20613" y="75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31000" y="80316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19025" y="2828"/>
                </a:moveTo>
                <a:cubicBezTo>
                  <a:pt x="18997" y="2948"/>
                  <a:pt x="18901" y="3145"/>
                  <a:pt x="19100" y="3150"/>
                </a:cubicBezTo>
                <a:cubicBezTo>
                  <a:pt x="19141" y="3142"/>
                  <a:pt x="19183" y="3133"/>
                  <a:pt x="19224" y="3125"/>
                </a:cubicBezTo>
              </a:path>
              <a:path w="1142" h="1192">
                <a:moveTo>
                  <a:pt x="19273" y="2877"/>
                </a:moveTo>
                <a:cubicBezTo>
                  <a:pt x="19258" y="3062"/>
                  <a:pt x="19248" y="3238"/>
                  <a:pt x="19248" y="3423"/>
                </a:cubicBezTo>
              </a:path>
              <a:path w="1142" h="1192">
                <a:moveTo>
                  <a:pt x="19571" y="2803"/>
                </a:moveTo>
                <a:cubicBezTo>
                  <a:pt x="19630" y="2744"/>
                  <a:pt x="19837" y="2675"/>
                  <a:pt x="19819" y="2853"/>
                </a:cubicBezTo>
                <a:cubicBezTo>
                  <a:pt x="19809" y="2956"/>
                  <a:pt x="19719" y="2985"/>
                  <a:pt x="19645" y="3026"/>
                </a:cubicBezTo>
                <a:cubicBezTo>
                  <a:pt x="19834" y="3085"/>
                  <a:pt x="19936" y="3179"/>
                  <a:pt x="19720" y="3349"/>
                </a:cubicBezTo>
                <a:cubicBezTo>
                  <a:pt x="19598" y="3397"/>
                  <a:pt x="19559" y="3414"/>
                  <a:pt x="19472" y="3373"/>
                </a:cubicBezTo>
              </a:path>
              <a:path w="1142" h="1192">
                <a:moveTo>
                  <a:pt x="20067" y="3249"/>
                </a:moveTo>
                <a:cubicBezTo>
                  <a:pt x="20084" y="3274"/>
                  <a:pt x="20100" y="3299"/>
                  <a:pt x="20117" y="3324"/>
                </a:cubicBezTo>
              </a:path>
              <a:path w="1142" h="1192">
                <a:moveTo>
                  <a:pt x="19794" y="2232"/>
                </a:moveTo>
                <a:cubicBezTo>
                  <a:pt x="19743" y="2337"/>
                  <a:pt x="19725" y="2375"/>
                  <a:pt x="19720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2960" y="839880"/>
            <a:ext cx="331920" cy="3571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20712" y="2828"/>
                </a:moveTo>
                <a:cubicBezTo>
                  <a:pt x="20847" y="2997"/>
                  <a:pt x="20967" y="3175"/>
                  <a:pt x="20662" y="3249"/>
                </a:cubicBezTo>
                <a:cubicBezTo>
                  <a:pt x="20621" y="3249"/>
                  <a:pt x="20579" y="3249"/>
                  <a:pt x="20538" y="3249"/>
                </a:cubicBezTo>
                <a:cubicBezTo>
                  <a:pt x="20641" y="3095"/>
                  <a:pt x="20775" y="3198"/>
                  <a:pt x="20910" y="3324"/>
                </a:cubicBezTo>
              </a:path>
              <a:path w="919" h="993">
                <a:moveTo>
                  <a:pt x="21233" y="2753"/>
                </a:moveTo>
                <a:cubicBezTo>
                  <a:pt x="21040" y="2917"/>
                  <a:pt x="21155" y="2891"/>
                  <a:pt x="21307" y="3051"/>
                </a:cubicBezTo>
                <a:cubicBezTo>
                  <a:pt x="21373" y="3138"/>
                  <a:pt x="21393" y="3156"/>
                  <a:pt x="21406" y="3225"/>
                </a:cubicBezTo>
                <a:cubicBezTo>
                  <a:pt x="21381" y="3241"/>
                  <a:pt x="21357" y="3258"/>
                  <a:pt x="21332" y="3274"/>
                </a:cubicBezTo>
                <a:cubicBezTo>
                  <a:pt x="21162" y="3160"/>
                  <a:pt x="21331" y="2979"/>
                  <a:pt x="21431" y="2803"/>
                </a:cubicBezTo>
                <a:cubicBezTo>
                  <a:pt x="21439" y="2786"/>
                  <a:pt x="21448" y="2770"/>
                  <a:pt x="21456" y="2753"/>
                </a:cubicBezTo>
              </a:path>
              <a:path w="919" h="993">
                <a:moveTo>
                  <a:pt x="20588" y="2332"/>
                </a:moveTo>
                <a:cubicBezTo>
                  <a:pt x="20618" y="2431"/>
                  <a:pt x="20613" y="2564"/>
                  <a:pt x="20613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0880" y="1320840"/>
            <a:ext cx="1241280" cy="250920"/>
          </a:xfrm>
          <a:custGeom>
            <a:avLst/>
            <a:gdLst/>
            <a:ahLst/>
            <a:rect l="l" t="t" r="r" b="b"/>
            <a:pathLst>
              <a:path w="3449" h="696">
                <a:moveTo>
                  <a:pt x="18231" y="3746"/>
                </a:moveTo>
                <a:cubicBezTo>
                  <a:pt x="18231" y="3970"/>
                  <a:pt x="18228" y="4028"/>
                  <a:pt x="18256" y="4167"/>
                </a:cubicBezTo>
              </a:path>
              <a:path w="3449" h="696">
                <a:moveTo>
                  <a:pt x="18058" y="3870"/>
                </a:moveTo>
                <a:cubicBezTo>
                  <a:pt x="18236" y="3870"/>
                  <a:pt x="18403" y="3872"/>
                  <a:pt x="18579" y="3894"/>
                </a:cubicBezTo>
              </a:path>
              <a:path w="3449" h="696">
                <a:moveTo>
                  <a:pt x="19124" y="3795"/>
                </a:moveTo>
                <a:cubicBezTo>
                  <a:pt x="19124" y="3985"/>
                  <a:pt x="19097" y="4155"/>
                  <a:pt x="19075" y="4341"/>
                </a:cubicBezTo>
              </a:path>
              <a:path w="3449" h="696">
                <a:moveTo>
                  <a:pt x="19621" y="3721"/>
                </a:moveTo>
                <a:cubicBezTo>
                  <a:pt x="19521" y="3805"/>
                  <a:pt x="19356" y="3881"/>
                  <a:pt x="19447" y="3994"/>
                </a:cubicBezTo>
                <a:cubicBezTo>
                  <a:pt x="19545" y="4092"/>
                  <a:pt x="19577" y="4123"/>
                  <a:pt x="19596" y="4217"/>
                </a:cubicBezTo>
                <a:cubicBezTo>
                  <a:pt x="19596" y="4233"/>
                  <a:pt x="19596" y="4250"/>
                  <a:pt x="19596" y="4266"/>
                </a:cubicBezTo>
                <a:cubicBezTo>
                  <a:pt x="19397" y="4159"/>
                  <a:pt x="19507" y="4018"/>
                  <a:pt x="19596" y="3820"/>
                </a:cubicBezTo>
              </a:path>
              <a:path w="3449" h="696">
                <a:moveTo>
                  <a:pt x="19943" y="4118"/>
                </a:moveTo>
                <a:cubicBezTo>
                  <a:pt x="19943" y="4134"/>
                  <a:pt x="19943" y="4151"/>
                  <a:pt x="19943" y="4167"/>
                </a:cubicBezTo>
              </a:path>
              <a:path w="3449" h="696">
                <a:moveTo>
                  <a:pt x="20439" y="3671"/>
                </a:moveTo>
                <a:cubicBezTo>
                  <a:pt x="20565" y="3743"/>
                  <a:pt x="20674" y="3693"/>
                  <a:pt x="20811" y="3721"/>
                </a:cubicBezTo>
                <a:cubicBezTo>
                  <a:pt x="20932" y="3745"/>
                  <a:pt x="20818" y="4176"/>
                  <a:pt x="20811" y="4242"/>
                </a:cubicBezTo>
                <a:cubicBezTo>
                  <a:pt x="20811" y="4258"/>
                  <a:pt x="20811" y="4275"/>
                  <a:pt x="20811" y="4291"/>
                </a:cubicBezTo>
              </a:path>
              <a:path w="3449" h="696">
                <a:moveTo>
                  <a:pt x="21158" y="3696"/>
                </a:moveTo>
                <a:cubicBezTo>
                  <a:pt x="21298" y="3739"/>
                  <a:pt x="21480" y="3909"/>
                  <a:pt x="21357" y="4093"/>
                </a:cubicBezTo>
                <a:cubicBezTo>
                  <a:pt x="21274" y="4218"/>
                  <a:pt x="21155" y="4171"/>
                  <a:pt x="21084" y="4118"/>
                </a:cubicBezTo>
                <a:cubicBezTo>
                  <a:pt x="21222" y="4034"/>
                  <a:pt x="21422" y="4003"/>
                  <a:pt x="21506" y="4217"/>
                </a:cubicBezTo>
                <a:cubicBezTo>
                  <a:pt x="21498" y="4233"/>
                  <a:pt x="21489" y="4250"/>
                  <a:pt x="21481" y="4266"/>
                </a:cubicBezTo>
              </a:path>
              <a:path w="3449" h="696">
                <a:moveTo>
                  <a:pt x="19199" y="4242"/>
                </a:moveTo>
                <a:cubicBezTo>
                  <a:pt x="19844" y="4272"/>
                  <a:pt x="20489" y="4310"/>
                  <a:pt x="21134" y="4341"/>
                </a:cubicBezTo>
                <a:cubicBezTo>
                  <a:pt x="21252" y="4347"/>
                  <a:pt x="21362" y="4366"/>
                  <a:pt x="21481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200" y="3321000"/>
            <a:ext cx="936720" cy="716040"/>
          </a:xfrm>
          <a:custGeom>
            <a:avLst/>
            <a:gdLst/>
            <a:ahLst/>
            <a:rect l="l" t="t" r="r" b="b"/>
            <a:pathLst>
              <a:path w="2605" h="1986">
                <a:moveTo>
                  <a:pt x="1017" y="10964"/>
                </a:moveTo>
                <a:cubicBezTo>
                  <a:pt x="1223" y="11003"/>
                  <a:pt x="1426" y="11040"/>
                  <a:pt x="1637" y="11063"/>
                </a:cubicBezTo>
                <a:cubicBezTo>
                  <a:pt x="1971" y="11100"/>
                  <a:pt x="2287" y="11113"/>
                  <a:pt x="2604" y="10988"/>
                </a:cubicBezTo>
                <a:cubicBezTo>
                  <a:pt x="2851" y="10890"/>
                  <a:pt x="3062" y="10781"/>
                  <a:pt x="3225" y="10567"/>
                </a:cubicBezTo>
                <a:cubicBezTo>
                  <a:pt x="3318" y="10444"/>
                  <a:pt x="3416" y="10275"/>
                  <a:pt x="3423" y="10120"/>
                </a:cubicBezTo>
                <a:cubicBezTo>
                  <a:pt x="3436" y="9845"/>
                  <a:pt x="3322" y="9759"/>
                  <a:pt x="3125" y="9599"/>
                </a:cubicBezTo>
                <a:cubicBezTo>
                  <a:pt x="2916" y="9430"/>
                  <a:pt x="2711" y="9261"/>
                  <a:pt x="2431" y="9227"/>
                </a:cubicBezTo>
                <a:cubicBezTo>
                  <a:pt x="2126" y="9190"/>
                  <a:pt x="1898" y="9294"/>
                  <a:pt x="1637" y="9426"/>
                </a:cubicBezTo>
                <a:cubicBezTo>
                  <a:pt x="1385" y="9554"/>
                  <a:pt x="1150" y="9729"/>
                  <a:pt x="967" y="9947"/>
                </a:cubicBezTo>
                <a:cubicBezTo>
                  <a:pt x="760" y="10194"/>
                  <a:pt x="802" y="10473"/>
                  <a:pt x="943" y="10740"/>
                </a:cubicBezTo>
                <a:cubicBezTo>
                  <a:pt x="1062" y="10964"/>
                  <a:pt x="1275" y="11231"/>
                  <a:pt x="1563" y="11212"/>
                </a:cubicBezTo>
                <a:cubicBezTo>
                  <a:pt x="1726" y="11201"/>
                  <a:pt x="1870" y="11086"/>
                  <a:pt x="2009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08160" y="2625840"/>
            <a:ext cx="3052800" cy="241200"/>
          </a:xfrm>
          <a:custGeom>
            <a:avLst/>
            <a:gdLst/>
            <a:ahLst/>
            <a:rect l="l" t="t" r="r" b="b"/>
            <a:pathLst>
              <a:path w="8484" h="670">
                <a:moveTo>
                  <a:pt x="6276" y="7441"/>
                </a:moveTo>
                <a:cubicBezTo>
                  <a:pt x="6180" y="7480"/>
                  <a:pt x="6083" y="7511"/>
                  <a:pt x="5978" y="7516"/>
                </a:cubicBezTo>
                <a:cubicBezTo>
                  <a:pt x="5882" y="7521"/>
                  <a:pt x="5864" y="7607"/>
                  <a:pt x="5854" y="7689"/>
                </a:cubicBezTo>
                <a:cubicBezTo>
                  <a:pt x="5946" y="7684"/>
                  <a:pt x="6193" y="7619"/>
                  <a:pt x="6251" y="7739"/>
                </a:cubicBezTo>
                <a:cubicBezTo>
                  <a:pt x="6347" y="7937"/>
                  <a:pt x="6016" y="7954"/>
                  <a:pt x="5928" y="7962"/>
                </a:cubicBezTo>
              </a:path>
              <a:path w="8484" h="670">
                <a:moveTo>
                  <a:pt x="6548" y="7516"/>
                </a:moveTo>
                <a:cubicBezTo>
                  <a:pt x="6642" y="7569"/>
                  <a:pt x="6809" y="7584"/>
                  <a:pt x="6796" y="7739"/>
                </a:cubicBezTo>
                <a:cubicBezTo>
                  <a:pt x="6781" y="7922"/>
                  <a:pt x="6596" y="7921"/>
                  <a:pt x="6474" y="7888"/>
                </a:cubicBezTo>
                <a:cubicBezTo>
                  <a:pt x="6646" y="7801"/>
                  <a:pt x="6730" y="7772"/>
                  <a:pt x="6871" y="7913"/>
                </a:cubicBezTo>
              </a:path>
              <a:path w="8484" h="670">
                <a:moveTo>
                  <a:pt x="9575" y="7913"/>
                </a:moveTo>
                <a:cubicBezTo>
                  <a:pt x="9753" y="7913"/>
                  <a:pt x="9922" y="7910"/>
                  <a:pt x="10096" y="7938"/>
                </a:cubicBezTo>
                <a:cubicBezTo>
                  <a:pt x="9920" y="7938"/>
                  <a:pt x="9750" y="7923"/>
                  <a:pt x="9575" y="7913"/>
                </a:cubicBezTo>
                <a:cubicBezTo>
                  <a:pt x="9277" y="7896"/>
                  <a:pt x="9893" y="7888"/>
                  <a:pt x="9897" y="7888"/>
                </a:cubicBezTo>
                <a:cubicBezTo>
                  <a:pt x="10016" y="7877"/>
                  <a:pt x="10258" y="7863"/>
                  <a:pt x="9971" y="7863"/>
                </a:cubicBezTo>
                <a:cubicBezTo>
                  <a:pt x="9897" y="7863"/>
                  <a:pt x="9822" y="7863"/>
                  <a:pt x="9748" y="7863"/>
                </a:cubicBezTo>
                <a:cubicBezTo>
                  <a:pt x="9568" y="7863"/>
                  <a:pt x="10096" y="7863"/>
                  <a:pt x="10170" y="7863"/>
                </a:cubicBezTo>
                <a:cubicBezTo>
                  <a:pt x="10319" y="7863"/>
                  <a:pt x="9739" y="7820"/>
                  <a:pt x="9872" y="7888"/>
                </a:cubicBezTo>
                <a:cubicBezTo>
                  <a:pt x="9951" y="7928"/>
                  <a:pt x="10131" y="7868"/>
                  <a:pt x="10220" y="7863"/>
                </a:cubicBezTo>
              </a:path>
              <a:path w="8484" h="670">
                <a:moveTo>
                  <a:pt x="7764" y="7689"/>
                </a:moveTo>
                <a:cubicBezTo>
                  <a:pt x="7964" y="7595"/>
                  <a:pt x="8165" y="7494"/>
                  <a:pt x="8384" y="7441"/>
                </a:cubicBezTo>
                <a:cubicBezTo>
                  <a:pt x="8693" y="7366"/>
                  <a:pt x="8989" y="7341"/>
                  <a:pt x="9302" y="7317"/>
                </a:cubicBezTo>
                <a:cubicBezTo>
                  <a:pt x="9663" y="7289"/>
                  <a:pt x="10030" y="7277"/>
                  <a:pt x="10393" y="7293"/>
                </a:cubicBezTo>
                <a:cubicBezTo>
                  <a:pt x="10816" y="7312"/>
                  <a:pt x="11236" y="7331"/>
                  <a:pt x="11658" y="7367"/>
                </a:cubicBezTo>
                <a:cubicBezTo>
                  <a:pt x="12139" y="7408"/>
                  <a:pt x="12621" y="7435"/>
                  <a:pt x="13097" y="7516"/>
                </a:cubicBezTo>
                <a:cubicBezTo>
                  <a:pt x="13473" y="7580"/>
                  <a:pt x="13911" y="7608"/>
                  <a:pt x="14263" y="7764"/>
                </a:cubicBezTo>
                <a:cubicBezTo>
                  <a:pt x="14288" y="7813"/>
                  <a:pt x="14296" y="7829"/>
                  <a:pt x="14337" y="7838"/>
                </a:cubicBezTo>
              </a:path>
              <a:path w="8484" h="670">
                <a:moveTo>
                  <a:pt x="7739" y="7417"/>
                </a:moveTo>
                <a:cubicBezTo>
                  <a:pt x="7716" y="7583"/>
                  <a:pt x="7693" y="7748"/>
                  <a:pt x="7665" y="7913"/>
                </a:cubicBezTo>
                <a:cubicBezTo>
                  <a:pt x="7857" y="7903"/>
                  <a:pt x="8052" y="7887"/>
                  <a:pt x="8235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4080" y="1697040"/>
            <a:ext cx="804960" cy="303120"/>
          </a:xfrm>
          <a:custGeom>
            <a:avLst/>
            <a:gdLst/>
            <a:ahLst/>
            <a:rect l="l" t="t" r="r" b="b"/>
            <a:pathLst>
              <a:path w="2233" h="844">
                <a:moveTo>
                  <a:pt x="19323" y="5556"/>
                </a:moveTo>
                <a:lnTo>
                  <a:pt x="19323" y="5556"/>
                </a:lnTo>
              </a:path>
              <a:path w="2233" h="844">
                <a:moveTo>
                  <a:pt x="20613" y="4862"/>
                </a:moveTo>
                <a:cubicBezTo>
                  <a:pt x="20434" y="4984"/>
                  <a:pt x="20376" y="5061"/>
                  <a:pt x="20389" y="5283"/>
                </a:cubicBezTo>
                <a:cubicBezTo>
                  <a:pt x="20632" y="5241"/>
                  <a:pt x="20649" y="5174"/>
                  <a:pt x="20638" y="4936"/>
                </a:cubicBezTo>
              </a:path>
              <a:path w="2233" h="844">
                <a:moveTo>
                  <a:pt x="20017" y="5308"/>
                </a:moveTo>
                <a:cubicBezTo>
                  <a:pt x="20017" y="5333"/>
                  <a:pt x="20017" y="5358"/>
                  <a:pt x="20017" y="5383"/>
                </a:cubicBezTo>
              </a:path>
              <a:path w="2233" h="844">
                <a:moveTo>
                  <a:pt x="19422" y="4713"/>
                </a:moveTo>
                <a:cubicBezTo>
                  <a:pt x="19395" y="4766"/>
                  <a:pt x="19383" y="4786"/>
                  <a:pt x="19348" y="4812"/>
                </a:cubicBezTo>
                <a:cubicBezTo>
                  <a:pt x="19568" y="4812"/>
                  <a:pt x="19458" y="5051"/>
                  <a:pt x="19348" y="5184"/>
                </a:cubicBezTo>
                <a:cubicBezTo>
                  <a:pt x="19220" y="5339"/>
                  <a:pt x="19161" y="5236"/>
                  <a:pt x="19174" y="5110"/>
                </a:cubicBezTo>
                <a:cubicBezTo>
                  <a:pt x="19318" y="5119"/>
                  <a:pt x="19393" y="5109"/>
                  <a:pt x="19472" y="5234"/>
                </a:cubicBezTo>
              </a:path>
              <a:path w="2233" h="844">
                <a:moveTo>
                  <a:pt x="18628" y="4787"/>
                </a:moveTo>
                <a:cubicBezTo>
                  <a:pt x="18506" y="4890"/>
                  <a:pt x="18450" y="5043"/>
                  <a:pt x="18430" y="5209"/>
                </a:cubicBezTo>
                <a:cubicBezTo>
                  <a:pt x="18430" y="5310"/>
                  <a:pt x="18410" y="5341"/>
                  <a:pt x="18479" y="5358"/>
                </a:cubicBezTo>
                <a:cubicBezTo>
                  <a:pt x="18658" y="5316"/>
                  <a:pt x="18723" y="5257"/>
                  <a:pt x="18802" y="5085"/>
                </a:cubicBezTo>
                <a:cubicBezTo>
                  <a:pt x="18617" y="5122"/>
                  <a:pt x="18622" y="5212"/>
                  <a:pt x="18579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4160" y="1812960"/>
            <a:ext cx="1447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1580" y="5110"/>
                </a:moveTo>
                <a:cubicBezTo>
                  <a:pt x="21362" y="5123"/>
                  <a:pt x="21311" y="5277"/>
                  <a:pt x="21208" y="5482"/>
                </a:cubicBezTo>
                <a:cubicBezTo>
                  <a:pt x="21369" y="5522"/>
                  <a:pt x="21702" y="5459"/>
                  <a:pt x="21605" y="5184"/>
                </a:cubicBezTo>
                <a:cubicBezTo>
                  <a:pt x="21564" y="5134"/>
                  <a:pt x="21522" y="5085"/>
                  <a:pt x="2148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3080" y="2751120"/>
            <a:ext cx="19692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701" y="7739"/>
                </a:moveTo>
                <a:cubicBezTo>
                  <a:pt x="15901" y="7781"/>
                  <a:pt x="16041" y="7925"/>
                  <a:pt x="16197" y="8062"/>
                </a:cubicBezTo>
                <a:cubicBezTo>
                  <a:pt x="16214" y="8078"/>
                  <a:pt x="16230" y="8095"/>
                  <a:pt x="16247" y="8111"/>
                </a:cubicBezTo>
              </a:path>
              <a:path w="547" h="497">
                <a:moveTo>
                  <a:pt x="16123" y="7640"/>
                </a:moveTo>
                <a:cubicBezTo>
                  <a:pt x="16031" y="7794"/>
                  <a:pt x="15900" y="7971"/>
                  <a:pt x="1585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6760" y="2652840"/>
            <a:ext cx="241200" cy="20484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14163" y="7367"/>
                </a:moveTo>
                <a:cubicBezTo>
                  <a:pt x="14267" y="7505"/>
                  <a:pt x="14314" y="7656"/>
                  <a:pt x="14387" y="7813"/>
                </a:cubicBezTo>
                <a:cubicBezTo>
                  <a:pt x="14395" y="7830"/>
                  <a:pt x="14404" y="7846"/>
                  <a:pt x="14412" y="7863"/>
                </a:cubicBezTo>
                <a:cubicBezTo>
                  <a:pt x="14189" y="7893"/>
                  <a:pt x="13966" y="7925"/>
                  <a:pt x="13742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ch Gardens charges a flat fee of $45 a day.  If you also want to play some games in the arcade at $2 per game, which expression would help you find your total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45 x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 45x +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45 + 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53120" y="3768840"/>
            <a:ext cx="677880" cy="615960"/>
          </a:xfrm>
          <a:custGeom>
            <a:avLst/>
            <a:gdLst/>
            <a:ahLst/>
            <a:rect l="l" t="t" r="r" b="b"/>
            <a:pathLst>
              <a:path w="1887" h="1712">
                <a:moveTo>
                  <a:pt x="17140" y="11633"/>
                </a:moveTo>
                <a:cubicBezTo>
                  <a:pt x="17210" y="11754"/>
                  <a:pt x="17274" y="11895"/>
                  <a:pt x="17363" y="12005"/>
                </a:cubicBezTo>
                <a:cubicBezTo>
                  <a:pt x="17524" y="12204"/>
                  <a:pt x="17827" y="12194"/>
                  <a:pt x="18058" y="12154"/>
                </a:cubicBezTo>
                <a:cubicBezTo>
                  <a:pt x="18236" y="12123"/>
                  <a:pt x="18481" y="12037"/>
                  <a:pt x="18628" y="11931"/>
                </a:cubicBezTo>
                <a:cubicBezTo>
                  <a:pt x="18742" y="11849"/>
                  <a:pt x="18937" y="11646"/>
                  <a:pt x="18976" y="11509"/>
                </a:cubicBezTo>
                <a:cubicBezTo>
                  <a:pt x="19029" y="11325"/>
                  <a:pt x="18938" y="11107"/>
                  <a:pt x="18876" y="10939"/>
                </a:cubicBezTo>
                <a:cubicBezTo>
                  <a:pt x="18821" y="10789"/>
                  <a:pt x="18757" y="10642"/>
                  <a:pt x="18604" y="10567"/>
                </a:cubicBezTo>
                <a:cubicBezTo>
                  <a:pt x="18449" y="10491"/>
                  <a:pt x="18229" y="10457"/>
                  <a:pt x="18058" y="10468"/>
                </a:cubicBezTo>
                <a:cubicBezTo>
                  <a:pt x="17850" y="10481"/>
                  <a:pt x="17598" y="10514"/>
                  <a:pt x="17413" y="10616"/>
                </a:cubicBezTo>
                <a:cubicBezTo>
                  <a:pt x="17263" y="10699"/>
                  <a:pt x="17158" y="10879"/>
                  <a:pt x="17115" y="11038"/>
                </a:cubicBezTo>
                <a:cubicBezTo>
                  <a:pt x="17048" y="11286"/>
                  <a:pt x="17089" y="11496"/>
                  <a:pt x="17264" y="11683"/>
                </a:cubicBezTo>
                <a:cubicBezTo>
                  <a:pt x="17442" y="11874"/>
                  <a:pt x="17624" y="11867"/>
                  <a:pt x="17859" y="11857"/>
                </a:cubicBezTo>
                <a:cubicBezTo>
                  <a:pt x="17892" y="11857"/>
                  <a:pt x="17926" y="11857"/>
                  <a:pt x="17959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be our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333399"/>
                </a:solidFill>
                <a:latin typeface="Curlz MT"/>
              </a:rPr>
              <a:t>Algebra Whiz Team</a:t>
            </a:r>
            <a:r>
              <a:rPr b="0" lang="en-US" sz="88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7160" y="6848640"/>
            <a:ext cx="810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5854" y="19025"/>
                </a:moveTo>
                <a:cubicBezTo>
                  <a:pt x="5780" y="19025"/>
                  <a:pt x="5705" y="19025"/>
                  <a:pt x="5631" y="190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 + 6 x 5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7 + 1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38280" y="3962520"/>
          <a:ext cx="4038840" cy="2342880"/>
        </p:xfrm>
        <a:graphic>
          <a:graphicData uri="http://schemas.openxmlformats.org/drawingml/2006/table">
            <a:tbl>
              <a:tblPr/>
              <a:tblGrid>
                <a:gridCol w="2017800"/>
                <a:gridCol w="202104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401920" y="2652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72" y="7367"/>
                </a:moveTo>
                <a:lnTo>
                  <a:pt x="6672" y="73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67120" y="1741320"/>
            <a:ext cx="1339920" cy="446400"/>
          </a:xfrm>
          <a:custGeom>
            <a:avLst/>
            <a:gdLst/>
            <a:ahLst/>
            <a:rect l="l" t="t" r="r" b="b"/>
            <a:pathLst>
              <a:path w="3722" h="1241">
                <a:moveTo>
                  <a:pt x="11658" y="4936"/>
                </a:moveTo>
                <a:cubicBezTo>
                  <a:pt x="11680" y="4986"/>
                  <a:pt x="11706" y="5119"/>
                  <a:pt x="11757" y="5135"/>
                </a:cubicBezTo>
                <a:cubicBezTo>
                  <a:pt x="11922" y="5186"/>
                  <a:pt x="12203" y="5088"/>
                  <a:pt x="12378" y="5085"/>
                </a:cubicBezTo>
                <a:cubicBezTo>
                  <a:pt x="12658" y="5081"/>
                  <a:pt x="12971" y="5125"/>
                  <a:pt x="13246" y="5060"/>
                </a:cubicBezTo>
                <a:cubicBezTo>
                  <a:pt x="13313" y="5044"/>
                  <a:pt x="13413" y="5073"/>
                  <a:pt x="13444" y="5011"/>
                </a:cubicBezTo>
                <a:cubicBezTo>
                  <a:pt x="13464" y="4912"/>
                  <a:pt x="13472" y="4896"/>
                  <a:pt x="13469" y="4837"/>
                </a:cubicBezTo>
              </a:path>
              <a:path w="3722" h="1241">
                <a:moveTo>
                  <a:pt x="12402" y="5358"/>
                </a:moveTo>
                <a:cubicBezTo>
                  <a:pt x="12501" y="5336"/>
                  <a:pt x="12607" y="5377"/>
                  <a:pt x="12526" y="5507"/>
                </a:cubicBezTo>
                <a:cubicBezTo>
                  <a:pt x="12501" y="5532"/>
                  <a:pt x="12477" y="5556"/>
                  <a:pt x="12452" y="5581"/>
                </a:cubicBezTo>
                <a:cubicBezTo>
                  <a:pt x="12435" y="5589"/>
                  <a:pt x="12419" y="5598"/>
                  <a:pt x="12402" y="5606"/>
                </a:cubicBezTo>
                <a:cubicBezTo>
                  <a:pt x="12494" y="5585"/>
                  <a:pt x="12668" y="5552"/>
                  <a:pt x="12576" y="5730"/>
                </a:cubicBezTo>
                <a:cubicBezTo>
                  <a:pt x="12503" y="5871"/>
                  <a:pt x="12373" y="5835"/>
                  <a:pt x="12254" y="5829"/>
                </a:cubicBezTo>
              </a:path>
              <a:path w="3722" h="1241">
                <a:moveTo>
                  <a:pt x="12799" y="5358"/>
                </a:moveTo>
                <a:cubicBezTo>
                  <a:pt x="12799" y="5474"/>
                  <a:pt x="12765" y="5668"/>
                  <a:pt x="12898" y="5730"/>
                </a:cubicBezTo>
                <a:cubicBezTo>
                  <a:pt x="12931" y="5730"/>
                  <a:pt x="12965" y="5730"/>
                  <a:pt x="12998" y="5730"/>
                </a:cubicBezTo>
                <a:cubicBezTo>
                  <a:pt x="13124" y="5532"/>
                  <a:pt x="13091" y="5475"/>
                  <a:pt x="12874" y="5432"/>
                </a:cubicBezTo>
              </a:path>
              <a:path w="3722" h="1241">
                <a:moveTo>
                  <a:pt x="10889" y="5457"/>
                </a:moveTo>
                <a:cubicBezTo>
                  <a:pt x="10779" y="5582"/>
                  <a:pt x="10726" y="5774"/>
                  <a:pt x="10740" y="5953"/>
                </a:cubicBezTo>
                <a:cubicBezTo>
                  <a:pt x="10748" y="5978"/>
                  <a:pt x="10757" y="6003"/>
                  <a:pt x="10765" y="6028"/>
                </a:cubicBezTo>
                <a:cubicBezTo>
                  <a:pt x="10956" y="6013"/>
                  <a:pt x="10997" y="5915"/>
                  <a:pt x="11063" y="5730"/>
                </a:cubicBezTo>
                <a:cubicBezTo>
                  <a:pt x="10902" y="5762"/>
                  <a:pt x="10849" y="5830"/>
                  <a:pt x="10864" y="6003"/>
                </a:cubicBezTo>
                <a:cubicBezTo>
                  <a:pt x="10872" y="6028"/>
                  <a:pt x="10881" y="6052"/>
                  <a:pt x="10889" y="6077"/>
                </a:cubicBezTo>
              </a:path>
              <a:path w="3722" h="1241">
                <a:moveTo>
                  <a:pt x="11212" y="5606"/>
                </a:moveTo>
                <a:cubicBezTo>
                  <a:pt x="11199" y="5758"/>
                  <a:pt x="11168" y="5797"/>
                  <a:pt x="11261" y="5904"/>
                </a:cubicBezTo>
                <a:cubicBezTo>
                  <a:pt x="11338" y="5860"/>
                  <a:pt x="11545" y="5677"/>
                  <a:pt x="11361" y="5581"/>
                </a:cubicBezTo>
                <a:cubicBezTo>
                  <a:pt x="11336" y="5581"/>
                  <a:pt x="11311" y="5581"/>
                  <a:pt x="11286" y="5581"/>
                </a:cubicBezTo>
              </a:path>
              <a:path w="3722" h="1241">
                <a:moveTo>
                  <a:pt x="11708" y="5581"/>
                </a:moveTo>
                <a:cubicBezTo>
                  <a:pt x="11733" y="5680"/>
                  <a:pt x="11741" y="5713"/>
                  <a:pt x="11757" y="5779"/>
                </a:cubicBezTo>
              </a:path>
              <a:path w="3722" h="1241">
                <a:moveTo>
                  <a:pt x="11633" y="5655"/>
                </a:moveTo>
                <a:cubicBezTo>
                  <a:pt x="11718" y="5645"/>
                  <a:pt x="11798" y="5626"/>
                  <a:pt x="11881" y="5606"/>
                </a:cubicBezTo>
              </a:path>
              <a:path w="3722" h="1241">
                <a:moveTo>
                  <a:pt x="13494" y="5606"/>
                </a:moveTo>
                <a:cubicBezTo>
                  <a:pt x="13543" y="5606"/>
                  <a:pt x="13560" y="5606"/>
                  <a:pt x="13593" y="5606"/>
                </a:cubicBezTo>
              </a:path>
              <a:path w="3722" h="1241">
                <a:moveTo>
                  <a:pt x="13767" y="5432"/>
                </a:moveTo>
                <a:cubicBezTo>
                  <a:pt x="13863" y="5517"/>
                  <a:pt x="13872" y="5608"/>
                  <a:pt x="13915" y="5730"/>
                </a:cubicBezTo>
              </a:path>
              <a:path w="3722" h="1241">
                <a:moveTo>
                  <a:pt x="14089" y="5432"/>
                </a:moveTo>
                <a:cubicBezTo>
                  <a:pt x="14194" y="5390"/>
                  <a:pt x="14256" y="5373"/>
                  <a:pt x="14362" y="5407"/>
                </a:cubicBezTo>
                <a:cubicBezTo>
                  <a:pt x="14346" y="5510"/>
                  <a:pt x="14319" y="5564"/>
                  <a:pt x="14263" y="5655"/>
                </a:cubicBezTo>
                <a:cubicBezTo>
                  <a:pt x="14369" y="5700"/>
                  <a:pt x="14353" y="5704"/>
                  <a:pt x="1446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87880" y="1901880"/>
            <a:ext cx="1822320" cy="492120"/>
          </a:xfrm>
          <a:custGeom>
            <a:avLst/>
            <a:gdLst/>
            <a:ahLst/>
            <a:rect l="l" t="t" r="r" b="b"/>
            <a:pathLst>
              <a:path w="5062" h="1366">
                <a:moveTo>
                  <a:pt x="11906" y="6251"/>
                </a:moveTo>
                <a:cubicBezTo>
                  <a:pt x="11855" y="6210"/>
                  <a:pt x="11821" y="6180"/>
                  <a:pt x="11757" y="6176"/>
                </a:cubicBezTo>
                <a:cubicBezTo>
                  <a:pt x="11694" y="6172"/>
                  <a:pt x="11627" y="6214"/>
                  <a:pt x="11633" y="6276"/>
                </a:cubicBezTo>
                <a:cubicBezTo>
                  <a:pt x="11657" y="6348"/>
                  <a:pt x="11664" y="6371"/>
                  <a:pt x="11708" y="6400"/>
                </a:cubicBezTo>
                <a:cubicBezTo>
                  <a:pt x="11792" y="6365"/>
                  <a:pt x="11842" y="6144"/>
                  <a:pt x="11881" y="6226"/>
                </a:cubicBezTo>
                <a:cubicBezTo>
                  <a:pt x="11917" y="6302"/>
                  <a:pt x="11868" y="6449"/>
                  <a:pt x="11857" y="6524"/>
                </a:cubicBezTo>
              </a:path>
              <a:path w="5062" h="1366">
                <a:moveTo>
                  <a:pt x="12129" y="6176"/>
                </a:moveTo>
                <a:cubicBezTo>
                  <a:pt x="12096" y="6263"/>
                  <a:pt x="11983" y="6428"/>
                  <a:pt x="12129" y="6474"/>
                </a:cubicBezTo>
                <a:cubicBezTo>
                  <a:pt x="12289" y="6525"/>
                  <a:pt x="12323" y="6372"/>
                  <a:pt x="12278" y="6276"/>
                </a:cubicBezTo>
                <a:cubicBezTo>
                  <a:pt x="12249" y="6215"/>
                  <a:pt x="12159" y="6232"/>
                  <a:pt x="12105" y="6226"/>
                </a:cubicBezTo>
              </a:path>
              <a:path w="5062" h="1366">
                <a:moveTo>
                  <a:pt x="12601" y="6375"/>
                </a:moveTo>
                <a:cubicBezTo>
                  <a:pt x="12660" y="6368"/>
                  <a:pt x="12715" y="6357"/>
                  <a:pt x="12774" y="6350"/>
                </a:cubicBezTo>
              </a:path>
              <a:path w="5062" h="1366">
                <a:moveTo>
                  <a:pt x="12998" y="6226"/>
                </a:moveTo>
                <a:cubicBezTo>
                  <a:pt x="13022" y="6316"/>
                  <a:pt x="13057" y="6408"/>
                  <a:pt x="13072" y="6499"/>
                </a:cubicBezTo>
              </a:path>
              <a:path w="5062" h="1366">
                <a:moveTo>
                  <a:pt x="13246" y="6251"/>
                </a:moveTo>
                <a:cubicBezTo>
                  <a:pt x="13304" y="6212"/>
                  <a:pt x="13414" y="6146"/>
                  <a:pt x="13444" y="6251"/>
                </a:cubicBezTo>
                <a:cubicBezTo>
                  <a:pt x="13466" y="6328"/>
                  <a:pt x="13400" y="6431"/>
                  <a:pt x="13370" y="6499"/>
                </a:cubicBezTo>
                <a:cubicBezTo>
                  <a:pt x="13438" y="6499"/>
                  <a:pt x="13481" y="6495"/>
                  <a:pt x="13543" y="6474"/>
                </a:cubicBezTo>
              </a:path>
              <a:path w="5062" h="1366">
                <a:moveTo>
                  <a:pt x="14139" y="6127"/>
                </a:moveTo>
                <a:cubicBezTo>
                  <a:pt x="14238" y="6127"/>
                  <a:pt x="14337" y="6127"/>
                  <a:pt x="14436" y="6127"/>
                </a:cubicBezTo>
              </a:path>
              <a:path w="5062" h="1366">
                <a:moveTo>
                  <a:pt x="14163" y="6325"/>
                </a:moveTo>
                <a:cubicBezTo>
                  <a:pt x="14266" y="6325"/>
                  <a:pt x="14360" y="6310"/>
                  <a:pt x="14461" y="6300"/>
                </a:cubicBezTo>
              </a:path>
              <a:path w="5062" h="1366">
                <a:moveTo>
                  <a:pt x="14982" y="5879"/>
                </a:moveTo>
                <a:cubicBezTo>
                  <a:pt x="15123" y="5840"/>
                  <a:pt x="15257" y="5871"/>
                  <a:pt x="15404" y="5879"/>
                </a:cubicBezTo>
                <a:cubicBezTo>
                  <a:pt x="15377" y="6055"/>
                  <a:pt x="15310" y="6192"/>
                  <a:pt x="15230" y="6350"/>
                </a:cubicBezTo>
              </a:path>
              <a:path w="5062" h="1366">
                <a:moveTo>
                  <a:pt x="15949" y="5755"/>
                </a:moveTo>
                <a:cubicBezTo>
                  <a:pt x="15832" y="5782"/>
                  <a:pt x="15805" y="5809"/>
                  <a:pt x="15726" y="5904"/>
                </a:cubicBezTo>
                <a:cubicBezTo>
                  <a:pt x="15803" y="6034"/>
                  <a:pt x="16010" y="6068"/>
                  <a:pt x="16073" y="6176"/>
                </a:cubicBezTo>
                <a:cubicBezTo>
                  <a:pt x="16073" y="6209"/>
                  <a:pt x="16073" y="6243"/>
                  <a:pt x="16073" y="6276"/>
                </a:cubicBezTo>
                <a:cubicBezTo>
                  <a:pt x="15919" y="6368"/>
                  <a:pt x="15838" y="6299"/>
                  <a:pt x="15900" y="6102"/>
                </a:cubicBezTo>
                <a:cubicBezTo>
                  <a:pt x="15957" y="5986"/>
                  <a:pt x="15965" y="5970"/>
                  <a:pt x="15999" y="5904"/>
                </a:cubicBezTo>
              </a:path>
              <a:path w="5062" h="1366">
                <a:moveTo>
                  <a:pt x="15007" y="6598"/>
                </a:moveTo>
                <a:cubicBezTo>
                  <a:pt x="15217" y="6598"/>
                  <a:pt x="15418" y="6594"/>
                  <a:pt x="15627" y="6573"/>
                </a:cubicBezTo>
                <a:cubicBezTo>
                  <a:pt x="15896" y="6547"/>
                  <a:pt x="16222" y="6517"/>
                  <a:pt x="16446" y="6350"/>
                </a:cubicBezTo>
                <a:cubicBezTo>
                  <a:pt x="16648" y="6199"/>
                  <a:pt x="16751" y="5941"/>
                  <a:pt x="16644" y="5705"/>
                </a:cubicBezTo>
                <a:cubicBezTo>
                  <a:pt x="16526" y="5446"/>
                  <a:pt x="16259" y="5355"/>
                  <a:pt x="15999" y="5308"/>
                </a:cubicBezTo>
                <a:cubicBezTo>
                  <a:pt x="15707" y="5255"/>
                  <a:pt x="15481" y="5304"/>
                  <a:pt x="15230" y="5432"/>
                </a:cubicBezTo>
                <a:cubicBezTo>
                  <a:pt x="15039" y="5530"/>
                  <a:pt x="14907" y="5659"/>
                  <a:pt x="14808" y="5854"/>
                </a:cubicBezTo>
                <a:cubicBezTo>
                  <a:pt x="14732" y="6003"/>
                  <a:pt x="14726" y="6265"/>
                  <a:pt x="14784" y="6424"/>
                </a:cubicBezTo>
                <a:cubicBezTo>
                  <a:pt x="14834" y="6560"/>
                  <a:pt x="14948" y="6636"/>
                  <a:pt x="15081" y="6648"/>
                </a:cubicBezTo>
                <a:cubicBezTo>
                  <a:pt x="15098" y="6648"/>
                  <a:pt x="15114" y="6648"/>
                  <a:pt x="1513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7280" y="2955960"/>
            <a:ext cx="401760" cy="312840"/>
          </a:xfrm>
          <a:custGeom>
            <a:avLst/>
            <a:gdLst/>
            <a:ahLst/>
            <a:rect l="l" t="t" r="r" b="b"/>
            <a:pathLst>
              <a:path w="1117" h="870">
                <a:moveTo>
                  <a:pt x="9823" y="8359"/>
                </a:moveTo>
                <a:cubicBezTo>
                  <a:pt x="9802" y="8521"/>
                  <a:pt x="9944" y="8418"/>
                  <a:pt x="10071" y="8409"/>
                </a:cubicBezTo>
                <a:cubicBezTo>
                  <a:pt x="10257" y="8396"/>
                  <a:pt x="10431" y="8453"/>
                  <a:pt x="10616" y="8458"/>
                </a:cubicBezTo>
                <a:cubicBezTo>
                  <a:pt x="10743" y="8461"/>
                  <a:pt x="10842" y="8501"/>
                  <a:pt x="10864" y="8359"/>
                </a:cubicBezTo>
                <a:cubicBezTo>
                  <a:pt x="10864" y="8276"/>
                  <a:pt x="10864" y="8260"/>
                  <a:pt x="10864" y="8210"/>
                </a:cubicBezTo>
              </a:path>
              <a:path w="1117" h="870">
                <a:moveTo>
                  <a:pt x="10220" y="8607"/>
                </a:moveTo>
                <a:cubicBezTo>
                  <a:pt x="10384" y="8626"/>
                  <a:pt x="10546" y="8655"/>
                  <a:pt x="10418" y="8855"/>
                </a:cubicBezTo>
                <a:cubicBezTo>
                  <a:pt x="10349" y="8962"/>
                  <a:pt x="10210" y="9017"/>
                  <a:pt x="10195" y="8880"/>
                </a:cubicBezTo>
                <a:cubicBezTo>
                  <a:pt x="10337" y="8858"/>
                  <a:pt x="10378" y="8868"/>
                  <a:pt x="10468" y="8979"/>
                </a:cubicBezTo>
              </a:path>
              <a:path w="1117" h="870">
                <a:moveTo>
                  <a:pt x="10889" y="8682"/>
                </a:moveTo>
                <a:cubicBezTo>
                  <a:pt x="10812" y="8690"/>
                  <a:pt x="10742" y="8711"/>
                  <a:pt x="10666" y="8731"/>
                </a:cubicBezTo>
                <a:cubicBezTo>
                  <a:pt x="10724" y="8830"/>
                  <a:pt x="10904" y="8895"/>
                  <a:pt x="10914" y="9004"/>
                </a:cubicBezTo>
                <a:cubicBezTo>
                  <a:pt x="10906" y="9021"/>
                  <a:pt x="10897" y="9037"/>
                  <a:pt x="10889" y="9054"/>
                </a:cubicBezTo>
                <a:cubicBezTo>
                  <a:pt x="10720" y="9054"/>
                  <a:pt x="10762" y="8972"/>
                  <a:pt x="10815" y="8830"/>
                </a:cubicBezTo>
                <a:cubicBezTo>
                  <a:pt x="10823" y="8805"/>
                  <a:pt x="10832" y="8781"/>
                  <a:pt x="10840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52880"/>
            <a:ext cx="13464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2477" y="8756"/>
                </a:moveTo>
                <a:cubicBezTo>
                  <a:pt x="12477" y="8847"/>
                  <a:pt x="12477" y="8938"/>
                  <a:pt x="12477" y="9029"/>
                </a:cubicBezTo>
              </a:path>
              <a:path w="373" h="274">
                <a:moveTo>
                  <a:pt x="12278" y="8930"/>
                </a:moveTo>
                <a:cubicBezTo>
                  <a:pt x="12404" y="8909"/>
                  <a:pt x="12521" y="8905"/>
                  <a:pt x="12650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6120" y="2795760"/>
            <a:ext cx="1724040" cy="490320"/>
          </a:xfrm>
          <a:custGeom>
            <a:avLst/>
            <a:gdLst/>
            <a:ahLst/>
            <a:rect l="l" t="t" r="r" b="b"/>
            <a:pathLst>
              <a:path w="4788" h="1365">
                <a:moveTo>
                  <a:pt x="13816" y="8260"/>
                </a:moveTo>
                <a:cubicBezTo>
                  <a:pt x="13789" y="8327"/>
                  <a:pt x="13774" y="8386"/>
                  <a:pt x="13767" y="8458"/>
                </a:cubicBezTo>
                <a:cubicBezTo>
                  <a:pt x="13878" y="8447"/>
                  <a:pt x="13979" y="8397"/>
                  <a:pt x="14089" y="8384"/>
                </a:cubicBezTo>
                <a:cubicBezTo>
                  <a:pt x="14205" y="8371"/>
                  <a:pt x="14320" y="8339"/>
                  <a:pt x="14436" y="8334"/>
                </a:cubicBezTo>
                <a:cubicBezTo>
                  <a:pt x="14529" y="8330"/>
                  <a:pt x="14646" y="8338"/>
                  <a:pt x="14734" y="8359"/>
                </a:cubicBezTo>
                <a:cubicBezTo>
                  <a:pt x="14834" y="8383"/>
                  <a:pt x="14925" y="8406"/>
                  <a:pt x="15032" y="8409"/>
                </a:cubicBezTo>
                <a:cubicBezTo>
                  <a:pt x="15167" y="8413"/>
                  <a:pt x="15295" y="8430"/>
                  <a:pt x="15429" y="8434"/>
                </a:cubicBezTo>
                <a:cubicBezTo>
                  <a:pt x="15496" y="8436"/>
                  <a:pt x="15723" y="8505"/>
                  <a:pt x="15776" y="8434"/>
                </a:cubicBezTo>
                <a:cubicBezTo>
                  <a:pt x="15804" y="8396"/>
                  <a:pt x="15801" y="8308"/>
                  <a:pt x="15801" y="8235"/>
                </a:cubicBezTo>
              </a:path>
              <a:path w="4788" h="1365">
                <a:moveTo>
                  <a:pt x="14734" y="8756"/>
                </a:moveTo>
                <a:cubicBezTo>
                  <a:pt x="14630" y="8756"/>
                  <a:pt x="14602" y="8728"/>
                  <a:pt x="14560" y="8830"/>
                </a:cubicBezTo>
                <a:cubicBezTo>
                  <a:pt x="14541" y="8888"/>
                  <a:pt x="14533" y="8895"/>
                  <a:pt x="14536" y="8930"/>
                </a:cubicBezTo>
                <a:cubicBezTo>
                  <a:pt x="14613" y="8921"/>
                  <a:pt x="14680" y="8910"/>
                  <a:pt x="14759" y="8905"/>
                </a:cubicBezTo>
                <a:cubicBezTo>
                  <a:pt x="14816" y="8980"/>
                  <a:pt x="14801" y="9056"/>
                  <a:pt x="14709" y="9103"/>
                </a:cubicBezTo>
                <a:cubicBezTo>
                  <a:pt x="14611" y="9128"/>
                  <a:pt x="14579" y="9136"/>
                  <a:pt x="14511" y="9128"/>
                </a:cubicBezTo>
              </a:path>
              <a:path w="4788" h="1365">
                <a:moveTo>
                  <a:pt x="16272" y="8657"/>
                </a:moveTo>
                <a:cubicBezTo>
                  <a:pt x="16363" y="8657"/>
                  <a:pt x="16388" y="8657"/>
                  <a:pt x="16446" y="8657"/>
                </a:cubicBezTo>
              </a:path>
              <a:path w="4788" h="1365">
                <a:moveTo>
                  <a:pt x="16222" y="8830"/>
                </a:moveTo>
                <a:cubicBezTo>
                  <a:pt x="16312" y="8812"/>
                  <a:pt x="16404" y="8792"/>
                  <a:pt x="16495" y="8781"/>
                </a:cubicBezTo>
              </a:path>
              <a:path w="4788" h="1365">
                <a:moveTo>
                  <a:pt x="17214" y="8260"/>
                </a:moveTo>
                <a:cubicBezTo>
                  <a:pt x="17262" y="8233"/>
                  <a:pt x="17305" y="8218"/>
                  <a:pt x="17363" y="8210"/>
                </a:cubicBezTo>
                <a:cubicBezTo>
                  <a:pt x="17337" y="8424"/>
                  <a:pt x="17334" y="8354"/>
                  <a:pt x="17562" y="8434"/>
                </a:cubicBezTo>
                <a:cubicBezTo>
                  <a:pt x="17526" y="8588"/>
                  <a:pt x="17446" y="8695"/>
                  <a:pt x="17264" y="8632"/>
                </a:cubicBezTo>
                <a:cubicBezTo>
                  <a:pt x="17239" y="8615"/>
                  <a:pt x="17215" y="8599"/>
                  <a:pt x="17190" y="8582"/>
                </a:cubicBezTo>
              </a:path>
              <a:path w="4788" h="1365">
                <a:moveTo>
                  <a:pt x="17711" y="8210"/>
                </a:moveTo>
                <a:cubicBezTo>
                  <a:pt x="17746" y="8204"/>
                  <a:pt x="18029" y="8128"/>
                  <a:pt x="17959" y="8260"/>
                </a:cubicBezTo>
                <a:cubicBezTo>
                  <a:pt x="17902" y="8317"/>
                  <a:pt x="17875" y="8336"/>
                  <a:pt x="17810" y="8334"/>
                </a:cubicBezTo>
                <a:cubicBezTo>
                  <a:pt x="17894" y="8350"/>
                  <a:pt x="18143" y="8384"/>
                  <a:pt x="18008" y="8508"/>
                </a:cubicBezTo>
                <a:cubicBezTo>
                  <a:pt x="17890" y="8568"/>
                  <a:pt x="17835" y="8587"/>
                  <a:pt x="17735" y="8582"/>
                </a:cubicBezTo>
              </a:path>
              <a:path w="4788" h="1365">
                <a:moveTo>
                  <a:pt x="16917" y="8731"/>
                </a:moveTo>
                <a:cubicBezTo>
                  <a:pt x="17216" y="8777"/>
                  <a:pt x="17532" y="8814"/>
                  <a:pt x="17835" y="8781"/>
                </a:cubicBezTo>
                <a:cubicBezTo>
                  <a:pt x="18059" y="8756"/>
                  <a:pt x="18462" y="8658"/>
                  <a:pt x="18554" y="8409"/>
                </a:cubicBezTo>
                <a:cubicBezTo>
                  <a:pt x="18641" y="8172"/>
                  <a:pt x="18423" y="7945"/>
                  <a:pt x="18231" y="7863"/>
                </a:cubicBezTo>
                <a:cubicBezTo>
                  <a:pt x="17964" y="7749"/>
                  <a:pt x="17427" y="7662"/>
                  <a:pt x="17165" y="7838"/>
                </a:cubicBezTo>
                <a:cubicBezTo>
                  <a:pt x="17017" y="7938"/>
                  <a:pt x="16583" y="8509"/>
                  <a:pt x="16842" y="8657"/>
                </a:cubicBezTo>
                <a:cubicBezTo>
                  <a:pt x="16933" y="8673"/>
                  <a:pt x="17024" y="8690"/>
                  <a:pt x="1711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35000" y="572436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2902" y="15900"/>
                </a:moveTo>
                <a:cubicBezTo>
                  <a:pt x="2894" y="15925"/>
                  <a:pt x="2885" y="15949"/>
                  <a:pt x="2877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4800" y="4687920"/>
            <a:ext cx="214200" cy="509400"/>
          </a:xfrm>
          <a:custGeom>
            <a:avLst/>
            <a:gdLst/>
            <a:ahLst/>
            <a:rect l="l" t="t" r="r" b="b"/>
            <a:pathLst>
              <a:path w="596" h="1415">
                <a:moveTo>
                  <a:pt x="18678" y="13097"/>
                </a:moveTo>
                <a:cubicBezTo>
                  <a:pt x="18784" y="13322"/>
                  <a:pt x="18901" y="13527"/>
                  <a:pt x="19025" y="13742"/>
                </a:cubicBezTo>
                <a:cubicBezTo>
                  <a:pt x="19042" y="13775"/>
                  <a:pt x="19058" y="13808"/>
                  <a:pt x="19075" y="13841"/>
                </a:cubicBezTo>
              </a:path>
              <a:path w="596" h="1415">
                <a:moveTo>
                  <a:pt x="19273" y="13022"/>
                </a:moveTo>
                <a:cubicBezTo>
                  <a:pt x="19235" y="13394"/>
                  <a:pt x="19131" y="13732"/>
                  <a:pt x="19025" y="14089"/>
                </a:cubicBezTo>
                <a:cubicBezTo>
                  <a:pt x="18966" y="14287"/>
                  <a:pt x="18954" y="14319"/>
                  <a:pt x="1892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3840" y="4589640"/>
            <a:ext cx="563400" cy="384120"/>
          </a:xfrm>
          <a:custGeom>
            <a:avLst/>
            <a:gdLst/>
            <a:ahLst/>
            <a:rect l="l" t="t" r="r" b="b"/>
            <a:pathLst>
              <a:path w="1563" h="1067">
                <a:moveTo>
                  <a:pt x="19893" y="13320"/>
                </a:moveTo>
                <a:cubicBezTo>
                  <a:pt x="20055" y="13227"/>
                  <a:pt x="20222" y="13246"/>
                  <a:pt x="20414" y="13246"/>
                </a:cubicBezTo>
              </a:path>
              <a:path w="1563" h="1067">
                <a:moveTo>
                  <a:pt x="19844" y="13618"/>
                </a:moveTo>
                <a:cubicBezTo>
                  <a:pt x="20013" y="13610"/>
                  <a:pt x="20150" y="13584"/>
                  <a:pt x="20315" y="13543"/>
                </a:cubicBezTo>
              </a:path>
              <a:path w="1563" h="1067">
                <a:moveTo>
                  <a:pt x="20786" y="13022"/>
                </a:moveTo>
                <a:cubicBezTo>
                  <a:pt x="20975" y="13211"/>
                  <a:pt x="21147" y="13429"/>
                  <a:pt x="21357" y="13593"/>
                </a:cubicBezTo>
                <a:cubicBezTo>
                  <a:pt x="21397" y="13613"/>
                  <a:pt x="21413" y="13632"/>
                  <a:pt x="21406" y="13593"/>
                </a:cubicBezTo>
              </a:path>
              <a:path w="1563" h="1067">
                <a:moveTo>
                  <a:pt x="21382" y="12874"/>
                </a:moveTo>
                <a:cubicBezTo>
                  <a:pt x="21243" y="13165"/>
                  <a:pt x="21166" y="13473"/>
                  <a:pt x="21034" y="13767"/>
                </a:cubicBezTo>
                <a:cubicBezTo>
                  <a:pt x="21026" y="13775"/>
                  <a:pt x="21018" y="13783"/>
                  <a:pt x="21010" y="13791"/>
                </a:cubicBezTo>
              </a:path>
              <a:path w="1563" h="1067">
                <a:moveTo>
                  <a:pt x="20216" y="12750"/>
                </a:moveTo>
                <a:cubicBezTo>
                  <a:pt x="20307" y="12750"/>
                  <a:pt x="20623" y="12700"/>
                  <a:pt x="20662" y="12774"/>
                </a:cubicBezTo>
                <a:cubicBezTo>
                  <a:pt x="20767" y="12977"/>
                  <a:pt x="20631" y="13439"/>
                  <a:pt x="20563" y="13643"/>
                </a:cubicBezTo>
                <a:cubicBezTo>
                  <a:pt x="20508" y="13752"/>
                  <a:pt x="20514" y="13771"/>
                  <a:pt x="20464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6320" y="5249880"/>
            <a:ext cx="41148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20712" y="15180"/>
                </a:moveTo>
                <a:cubicBezTo>
                  <a:pt x="20793" y="15321"/>
                  <a:pt x="20870" y="15472"/>
                  <a:pt x="20960" y="15602"/>
                </a:cubicBezTo>
              </a:path>
              <a:path w="1142" h="1093">
                <a:moveTo>
                  <a:pt x="21010" y="15007"/>
                </a:moveTo>
                <a:cubicBezTo>
                  <a:pt x="20935" y="15222"/>
                  <a:pt x="20863" y="15438"/>
                  <a:pt x="20786" y="15652"/>
                </a:cubicBezTo>
              </a:path>
              <a:path w="1142" h="1093">
                <a:moveTo>
                  <a:pt x="21208" y="14635"/>
                </a:moveTo>
                <a:cubicBezTo>
                  <a:pt x="21382" y="14598"/>
                  <a:pt x="21523" y="14585"/>
                  <a:pt x="21704" y="14585"/>
                </a:cubicBezTo>
                <a:cubicBezTo>
                  <a:pt x="21787" y="14585"/>
                  <a:pt x="21803" y="14585"/>
                  <a:pt x="21853" y="14585"/>
                </a:cubicBezTo>
                <a:cubicBezTo>
                  <a:pt x="21799" y="14877"/>
                  <a:pt x="21704" y="15180"/>
                  <a:pt x="21580" y="15453"/>
                </a:cubicBezTo>
                <a:cubicBezTo>
                  <a:pt x="21518" y="15588"/>
                  <a:pt x="21506" y="15557"/>
                  <a:pt x="21506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+ 1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x        x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umber x increased by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768320"/>
            <a:ext cx="1304640" cy="893880"/>
          </a:xfrm>
          <a:custGeom>
            <a:avLst/>
            <a:gdLst/>
            <a:ahLst/>
            <a:rect l="l" t="t" r="r" b="b"/>
            <a:pathLst>
              <a:path w="3623" h="2482">
                <a:moveTo>
                  <a:pt x="12378" y="4936"/>
                </a:moveTo>
                <a:cubicBezTo>
                  <a:pt x="12460" y="4936"/>
                  <a:pt x="12525" y="4901"/>
                  <a:pt x="12601" y="4936"/>
                </a:cubicBezTo>
                <a:cubicBezTo>
                  <a:pt x="12706" y="4985"/>
                  <a:pt x="12563" y="5195"/>
                  <a:pt x="12526" y="5234"/>
                </a:cubicBezTo>
                <a:cubicBezTo>
                  <a:pt x="12510" y="5242"/>
                  <a:pt x="12493" y="5251"/>
                  <a:pt x="12477" y="5259"/>
                </a:cubicBezTo>
                <a:cubicBezTo>
                  <a:pt x="12360" y="5220"/>
                  <a:pt x="12611" y="5207"/>
                  <a:pt x="12650" y="5234"/>
                </a:cubicBezTo>
                <a:cubicBezTo>
                  <a:pt x="12745" y="5301"/>
                  <a:pt x="12749" y="5451"/>
                  <a:pt x="12675" y="5531"/>
                </a:cubicBezTo>
                <a:cubicBezTo>
                  <a:pt x="12582" y="5631"/>
                  <a:pt x="12399" y="5672"/>
                  <a:pt x="12278" y="5606"/>
                </a:cubicBezTo>
                <a:cubicBezTo>
                  <a:pt x="12270" y="5598"/>
                  <a:pt x="12262" y="5589"/>
                  <a:pt x="12254" y="5581"/>
                </a:cubicBezTo>
              </a:path>
              <a:path w="3623" h="2482">
                <a:moveTo>
                  <a:pt x="10716" y="6424"/>
                </a:moveTo>
                <a:cubicBezTo>
                  <a:pt x="10617" y="6432"/>
                  <a:pt x="10674" y="6525"/>
                  <a:pt x="10691" y="6623"/>
                </a:cubicBezTo>
                <a:cubicBezTo>
                  <a:pt x="10699" y="6631"/>
                  <a:pt x="10708" y="6640"/>
                  <a:pt x="10716" y="6648"/>
                </a:cubicBezTo>
                <a:cubicBezTo>
                  <a:pt x="10899" y="6636"/>
                  <a:pt x="11079" y="6600"/>
                  <a:pt x="11261" y="6573"/>
                </a:cubicBezTo>
                <a:cubicBezTo>
                  <a:pt x="11452" y="6544"/>
                  <a:pt x="11643" y="6573"/>
                  <a:pt x="11832" y="6548"/>
                </a:cubicBezTo>
                <a:cubicBezTo>
                  <a:pt x="11918" y="6537"/>
                  <a:pt x="11995" y="6490"/>
                  <a:pt x="12080" y="6474"/>
                </a:cubicBezTo>
                <a:cubicBezTo>
                  <a:pt x="12171" y="6457"/>
                  <a:pt x="12163" y="6409"/>
                  <a:pt x="12179" y="6300"/>
                </a:cubicBezTo>
                <a:cubicBezTo>
                  <a:pt x="12179" y="6284"/>
                  <a:pt x="12179" y="6267"/>
                  <a:pt x="12179" y="6251"/>
                </a:cubicBezTo>
              </a:path>
              <a:path w="3623" h="2482">
                <a:moveTo>
                  <a:pt x="11336" y="6796"/>
                </a:moveTo>
                <a:cubicBezTo>
                  <a:pt x="11314" y="6862"/>
                  <a:pt x="11306" y="6877"/>
                  <a:pt x="11311" y="6921"/>
                </a:cubicBezTo>
                <a:cubicBezTo>
                  <a:pt x="11406" y="6960"/>
                  <a:pt x="11503" y="6929"/>
                  <a:pt x="11609" y="6921"/>
                </a:cubicBezTo>
              </a:path>
              <a:path w="3623" h="2482">
                <a:moveTo>
                  <a:pt x="11509" y="6672"/>
                </a:moveTo>
                <a:cubicBezTo>
                  <a:pt x="11483" y="6852"/>
                  <a:pt x="11497" y="7013"/>
                  <a:pt x="11509" y="7193"/>
                </a:cubicBezTo>
              </a:path>
              <a:path w="3623" h="2482">
                <a:moveTo>
                  <a:pt x="9103" y="6970"/>
                </a:moveTo>
                <a:cubicBezTo>
                  <a:pt x="9124" y="7113"/>
                  <a:pt x="9128" y="7246"/>
                  <a:pt x="9128" y="7392"/>
                </a:cubicBezTo>
              </a:path>
              <a:path w="3623" h="2482">
                <a:moveTo>
                  <a:pt x="9277" y="7020"/>
                </a:moveTo>
                <a:cubicBezTo>
                  <a:pt x="9300" y="7080"/>
                  <a:pt x="9290" y="7181"/>
                  <a:pt x="9376" y="7169"/>
                </a:cubicBezTo>
                <a:cubicBezTo>
                  <a:pt x="9401" y="7161"/>
                  <a:pt x="9426" y="7152"/>
                  <a:pt x="9451" y="7144"/>
                </a:cubicBezTo>
              </a:path>
              <a:path w="3623" h="2482">
                <a:moveTo>
                  <a:pt x="9500" y="6896"/>
                </a:moveTo>
                <a:cubicBezTo>
                  <a:pt x="9533" y="7033"/>
                  <a:pt x="9550" y="7152"/>
                  <a:pt x="9550" y="7293"/>
                </a:cubicBezTo>
              </a:path>
              <a:path w="3623" h="2482">
                <a:moveTo>
                  <a:pt x="9971" y="6796"/>
                </a:moveTo>
                <a:cubicBezTo>
                  <a:pt x="9980" y="6921"/>
                  <a:pt x="9989" y="7052"/>
                  <a:pt x="10021" y="7169"/>
                </a:cubicBezTo>
              </a:path>
              <a:path w="3623" h="2482">
                <a:moveTo>
                  <a:pt x="9823" y="7045"/>
                </a:moveTo>
                <a:cubicBezTo>
                  <a:pt x="9947" y="7039"/>
                  <a:pt x="10049" y="7024"/>
                  <a:pt x="10170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1080" y="252720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2030" y="7045"/>
                </a:moveTo>
                <a:cubicBezTo>
                  <a:pt x="12128" y="7045"/>
                  <a:pt x="12207" y="7038"/>
                  <a:pt x="12303" y="7020"/>
                </a:cubicBezTo>
              </a:path>
              <a:path w="299" h="224">
                <a:moveTo>
                  <a:pt x="12005" y="7218"/>
                </a:moveTo>
                <a:cubicBezTo>
                  <a:pt x="12072" y="7218"/>
                  <a:pt x="12106" y="7222"/>
                  <a:pt x="12154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3000" y="2419200"/>
            <a:ext cx="172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2923" y="6722"/>
                </a:moveTo>
                <a:cubicBezTo>
                  <a:pt x="12939" y="6848"/>
                  <a:pt x="12948" y="6972"/>
                  <a:pt x="12973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2367000"/>
            <a:ext cx="81000" cy="160200"/>
          </a:xfrm>
          <a:custGeom>
            <a:avLst/>
            <a:gdLst/>
            <a:ahLst/>
            <a:rect l="l" t="t" r="r" b="b"/>
            <a:pathLst>
              <a:path w="225" h="448">
                <a:moveTo>
                  <a:pt x="13419" y="6573"/>
                </a:moveTo>
                <a:cubicBezTo>
                  <a:pt x="13363" y="6595"/>
                  <a:pt x="13244" y="6661"/>
                  <a:pt x="13320" y="6747"/>
                </a:cubicBezTo>
                <a:cubicBezTo>
                  <a:pt x="13413" y="6853"/>
                  <a:pt x="13476" y="6842"/>
                  <a:pt x="13519" y="6970"/>
                </a:cubicBezTo>
                <a:cubicBezTo>
                  <a:pt x="13352" y="7054"/>
                  <a:pt x="13324" y="6951"/>
                  <a:pt x="13370" y="6772"/>
                </a:cubicBezTo>
                <a:cubicBezTo>
                  <a:pt x="13386" y="6731"/>
                  <a:pt x="13403" y="6689"/>
                  <a:pt x="13419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89880" y="3652920"/>
            <a:ext cx="839880" cy="285840"/>
          </a:xfrm>
          <a:custGeom>
            <a:avLst/>
            <a:gdLst/>
            <a:ahLst/>
            <a:rect l="l" t="t" r="r" b="b"/>
            <a:pathLst>
              <a:path w="2333" h="795">
                <a:moveTo>
                  <a:pt x="21109" y="10195"/>
                </a:moveTo>
                <a:cubicBezTo>
                  <a:pt x="21328" y="10268"/>
                  <a:pt x="21384" y="10533"/>
                  <a:pt x="21481" y="10740"/>
                </a:cubicBezTo>
                <a:cubicBezTo>
                  <a:pt x="21539" y="10856"/>
                  <a:pt x="21547" y="10873"/>
                  <a:pt x="21580" y="10939"/>
                </a:cubicBezTo>
              </a:path>
              <a:path w="2333" h="795">
                <a:moveTo>
                  <a:pt x="21580" y="10244"/>
                </a:moveTo>
                <a:cubicBezTo>
                  <a:pt x="21415" y="10449"/>
                  <a:pt x="21226" y="10643"/>
                  <a:pt x="21084" y="10864"/>
                </a:cubicBezTo>
              </a:path>
              <a:path w="2333" h="795">
                <a:moveTo>
                  <a:pt x="22027" y="10319"/>
                </a:moveTo>
                <a:cubicBezTo>
                  <a:pt x="22021" y="10477"/>
                  <a:pt x="22009" y="10632"/>
                  <a:pt x="22002" y="10790"/>
                </a:cubicBezTo>
              </a:path>
              <a:path w="2333" h="795">
                <a:moveTo>
                  <a:pt x="21853" y="10542"/>
                </a:moveTo>
                <a:cubicBezTo>
                  <a:pt x="21993" y="10514"/>
                  <a:pt x="22051" y="10503"/>
                  <a:pt x="22151" y="10492"/>
                </a:cubicBezTo>
              </a:path>
              <a:path w="2333" h="795">
                <a:moveTo>
                  <a:pt x="22523" y="10220"/>
                </a:moveTo>
                <a:cubicBezTo>
                  <a:pt x="22602" y="10203"/>
                  <a:pt x="22871" y="10147"/>
                  <a:pt x="22771" y="10319"/>
                </a:cubicBezTo>
                <a:cubicBezTo>
                  <a:pt x="22700" y="10389"/>
                  <a:pt x="22679" y="10411"/>
                  <a:pt x="22622" y="10443"/>
                </a:cubicBezTo>
                <a:cubicBezTo>
                  <a:pt x="22722" y="10418"/>
                  <a:pt x="22756" y="10410"/>
                  <a:pt x="22796" y="10492"/>
                </a:cubicBezTo>
                <a:cubicBezTo>
                  <a:pt x="22805" y="10656"/>
                  <a:pt x="22741" y="10803"/>
                  <a:pt x="22523" y="10740"/>
                </a:cubicBezTo>
                <a:cubicBezTo>
                  <a:pt x="22482" y="10715"/>
                  <a:pt x="22440" y="10691"/>
                  <a:pt x="22399" y="10666"/>
                </a:cubicBezTo>
              </a:path>
              <a:path w="2333" h="795">
                <a:moveTo>
                  <a:pt x="23168" y="10145"/>
                </a:moveTo>
                <a:cubicBezTo>
                  <a:pt x="23062" y="10373"/>
                  <a:pt x="22960" y="10523"/>
                  <a:pt x="23068" y="10740"/>
                </a:cubicBezTo>
                <a:cubicBezTo>
                  <a:pt x="23246" y="10689"/>
                  <a:pt x="23615" y="10519"/>
                  <a:pt x="23341" y="10269"/>
                </a:cubicBezTo>
                <a:cubicBezTo>
                  <a:pt x="23275" y="10244"/>
                  <a:pt x="23209" y="10220"/>
                  <a:pt x="2314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een subtracted from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(5-2) -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7160" y="1758960"/>
            <a:ext cx="277920" cy="25092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5655" y="5035"/>
                </a:moveTo>
                <a:cubicBezTo>
                  <a:pt x="5622" y="5207"/>
                  <a:pt x="5639" y="5358"/>
                  <a:pt x="5655" y="5531"/>
                </a:cubicBezTo>
                <a:cubicBezTo>
                  <a:pt x="5655" y="5548"/>
                  <a:pt x="5655" y="5564"/>
                  <a:pt x="5655" y="5581"/>
                </a:cubicBezTo>
              </a:path>
              <a:path w="770" h="695">
                <a:moveTo>
                  <a:pt x="6127" y="4887"/>
                </a:moveTo>
                <a:cubicBezTo>
                  <a:pt x="6032" y="4934"/>
                  <a:pt x="5914" y="4972"/>
                  <a:pt x="5879" y="5085"/>
                </a:cubicBezTo>
                <a:cubicBezTo>
                  <a:pt x="5879" y="5144"/>
                  <a:pt x="5882" y="5170"/>
                  <a:pt x="5904" y="5209"/>
                </a:cubicBezTo>
                <a:cubicBezTo>
                  <a:pt x="6066" y="5195"/>
                  <a:pt x="6160" y="5101"/>
                  <a:pt x="6325" y="5184"/>
                </a:cubicBezTo>
                <a:cubicBezTo>
                  <a:pt x="6583" y="5313"/>
                  <a:pt x="6260" y="5445"/>
                  <a:pt x="6152" y="5457"/>
                </a:cubicBezTo>
                <a:cubicBezTo>
                  <a:pt x="6102" y="5457"/>
                  <a:pt x="6053" y="5457"/>
                  <a:pt x="6003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59120" y="1955880"/>
            <a:ext cx="196920" cy="17280"/>
          </a:xfrm>
          <a:custGeom>
            <a:avLst/>
            <a:gdLst/>
            <a:ahLst/>
            <a:rect l="l" t="t" r="r" b="b"/>
            <a:pathLst>
              <a:path w="546" h="51">
                <a:moveTo>
                  <a:pt x="10443" y="5482"/>
                </a:moveTo>
                <a:cubicBezTo>
                  <a:pt x="10624" y="5424"/>
                  <a:pt x="10793" y="5432"/>
                  <a:pt x="1098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0200" y="2276640"/>
            <a:ext cx="820800" cy="125280"/>
          </a:xfrm>
          <a:custGeom>
            <a:avLst/>
            <a:gdLst/>
            <a:ahLst/>
            <a:rect l="l" t="t" r="r" b="b"/>
            <a:pathLst>
              <a:path w="2283" h="348">
                <a:moveTo>
                  <a:pt x="13444" y="6524"/>
                </a:moveTo>
                <a:cubicBezTo>
                  <a:pt x="13606" y="6557"/>
                  <a:pt x="13774" y="6570"/>
                  <a:pt x="13940" y="6598"/>
                </a:cubicBezTo>
                <a:cubicBezTo>
                  <a:pt x="14129" y="6630"/>
                  <a:pt x="14320" y="6660"/>
                  <a:pt x="14511" y="6672"/>
                </a:cubicBezTo>
                <a:cubicBezTo>
                  <a:pt x="14694" y="6683"/>
                  <a:pt x="14877" y="6637"/>
                  <a:pt x="15056" y="6623"/>
                </a:cubicBezTo>
                <a:cubicBezTo>
                  <a:pt x="15164" y="6614"/>
                  <a:pt x="15249" y="6629"/>
                  <a:pt x="15354" y="6598"/>
                </a:cubicBezTo>
                <a:cubicBezTo>
                  <a:pt x="15419" y="6579"/>
                  <a:pt x="15489" y="6590"/>
                  <a:pt x="15553" y="6573"/>
                </a:cubicBezTo>
                <a:cubicBezTo>
                  <a:pt x="15609" y="6558"/>
                  <a:pt x="15673" y="6518"/>
                  <a:pt x="15726" y="6499"/>
                </a:cubicBezTo>
                <a:cubicBezTo>
                  <a:pt x="15621" y="6499"/>
                  <a:pt x="15533" y="6490"/>
                  <a:pt x="15429" y="6474"/>
                </a:cubicBezTo>
              </a:path>
              <a:path w="2283" h="348">
                <a:moveTo>
                  <a:pt x="14089" y="6325"/>
                </a:moveTo>
                <a:cubicBezTo>
                  <a:pt x="14129" y="6345"/>
                  <a:pt x="14671" y="6426"/>
                  <a:pt x="14883" y="6424"/>
                </a:cubicBezTo>
                <a:cubicBezTo>
                  <a:pt x="15097" y="6422"/>
                  <a:pt x="15312" y="6400"/>
                  <a:pt x="15528" y="6400"/>
                </a:cubicBezTo>
                <a:cubicBezTo>
                  <a:pt x="15544" y="6400"/>
                  <a:pt x="15561" y="6400"/>
                  <a:pt x="15577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0360" y="1724040"/>
            <a:ext cx="911520" cy="812880"/>
          </a:xfrm>
          <a:custGeom>
            <a:avLst/>
            <a:gdLst/>
            <a:ahLst/>
            <a:rect l="l" t="t" r="r" b="b"/>
            <a:pathLst>
              <a:path w="2531" h="2259">
                <a:moveTo>
                  <a:pt x="19000" y="4911"/>
                </a:moveTo>
                <a:cubicBezTo>
                  <a:pt x="19125" y="5007"/>
                  <a:pt x="19217" y="5118"/>
                  <a:pt x="19323" y="5234"/>
                </a:cubicBezTo>
              </a:path>
              <a:path w="2531" h="2259">
                <a:moveTo>
                  <a:pt x="19397" y="4787"/>
                </a:moveTo>
                <a:cubicBezTo>
                  <a:pt x="19263" y="4927"/>
                  <a:pt x="19133" y="5069"/>
                  <a:pt x="19000" y="5209"/>
                </a:cubicBezTo>
              </a:path>
              <a:path w="2531" h="2259">
                <a:moveTo>
                  <a:pt x="19075" y="6474"/>
                </a:moveTo>
                <a:cubicBezTo>
                  <a:pt x="19187" y="6672"/>
                  <a:pt x="19360" y="6811"/>
                  <a:pt x="19496" y="6995"/>
                </a:cubicBezTo>
                <a:cubicBezTo>
                  <a:pt x="19504" y="7012"/>
                  <a:pt x="19513" y="7028"/>
                  <a:pt x="19521" y="7045"/>
                </a:cubicBezTo>
              </a:path>
              <a:path w="2531" h="2259">
                <a:moveTo>
                  <a:pt x="19596" y="6424"/>
                </a:moveTo>
                <a:cubicBezTo>
                  <a:pt x="19442" y="6634"/>
                  <a:pt x="19277" y="6836"/>
                  <a:pt x="19124" y="7045"/>
                </a:cubicBezTo>
              </a:path>
              <a:path w="2531" h="2259">
                <a:moveTo>
                  <a:pt x="19943" y="6747"/>
                </a:moveTo>
                <a:cubicBezTo>
                  <a:pt x="20061" y="6754"/>
                  <a:pt x="20171" y="6772"/>
                  <a:pt x="20290" y="6772"/>
                </a:cubicBezTo>
              </a:path>
              <a:path w="2531" h="2259">
                <a:moveTo>
                  <a:pt x="20712" y="6499"/>
                </a:moveTo>
                <a:cubicBezTo>
                  <a:pt x="20720" y="6666"/>
                  <a:pt x="20737" y="6827"/>
                  <a:pt x="20737" y="6995"/>
                </a:cubicBezTo>
              </a:path>
              <a:path w="2531" h="2259">
                <a:moveTo>
                  <a:pt x="21506" y="6375"/>
                </a:moveTo>
                <a:cubicBezTo>
                  <a:pt x="21430" y="6396"/>
                  <a:pt x="21265" y="6388"/>
                  <a:pt x="21208" y="6424"/>
                </a:cubicBezTo>
                <a:cubicBezTo>
                  <a:pt x="21104" y="6489"/>
                  <a:pt x="21114" y="6598"/>
                  <a:pt x="21084" y="6697"/>
                </a:cubicBezTo>
                <a:cubicBezTo>
                  <a:pt x="21207" y="6677"/>
                  <a:pt x="21297" y="6616"/>
                  <a:pt x="21431" y="6672"/>
                </a:cubicBezTo>
                <a:cubicBezTo>
                  <a:pt x="21631" y="6756"/>
                  <a:pt x="21498" y="6947"/>
                  <a:pt x="21357" y="6995"/>
                </a:cubicBezTo>
                <a:cubicBezTo>
                  <a:pt x="21216" y="7019"/>
                  <a:pt x="21174" y="7029"/>
                  <a:pt x="21084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00880" y="3214800"/>
            <a:ext cx="268200" cy="41112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18107" y="8954"/>
                </a:moveTo>
                <a:cubicBezTo>
                  <a:pt x="18210" y="8929"/>
                  <a:pt x="18340" y="8911"/>
                  <a:pt x="18306" y="9079"/>
                </a:cubicBezTo>
                <a:cubicBezTo>
                  <a:pt x="18277" y="9107"/>
                  <a:pt x="18264" y="9115"/>
                  <a:pt x="18231" y="9103"/>
                </a:cubicBezTo>
                <a:cubicBezTo>
                  <a:pt x="18297" y="9149"/>
                  <a:pt x="18456" y="9298"/>
                  <a:pt x="18281" y="9376"/>
                </a:cubicBezTo>
                <a:cubicBezTo>
                  <a:pt x="18185" y="9419"/>
                  <a:pt x="18071" y="9368"/>
                  <a:pt x="18058" y="9277"/>
                </a:cubicBezTo>
              </a:path>
              <a:path w="745" h="1142">
                <a:moveTo>
                  <a:pt x="18504" y="8930"/>
                </a:moveTo>
                <a:cubicBezTo>
                  <a:pt x="18504" y="9016"/>
                  <a:pt x="18468" y="9213"/>
                  <a:pt x="18554" y="9277"/>
                </a:cubicBezTo>
                <a:cubicBezTo>
                  <a:pt x="18656" y="9352"/>
                  <a:pt x="18768" y="9245"/>
                  <a:pt x="18802" y="9178"/>
                </a:cubicBezTo>
                <a:cubicBezTo>
                  <a:pt x="18721" y="9147"/>
                  <a:pt x="18647" y="9154"/>
                  <a:pt x="18604" y="9252"/>
                </a:cubicBezTo>
                <a:cubicBezTo>
                  <a:pt x="18604" y="9269"/>
                  <a:pt x="18604" y="9285"/>
                  <a:pt x="18604" y="9302"/>
                </a:cubicBezTo>
              </a:path>
              <a:path w="745" h="1142">
                <a:moveTo>
                  <a:pt x="18182" y="9500"/>
                </a:moveTo>
                <a:cubicBezTo>
                  <a:pt x="18356" y="9478"/>
                  <a:pt x="18507" y="9458"/>
                  <a:pt x="18678" y="9475"/>
                </a:cubicBezTo>
              </a:path>
              <a:path w="745" h="1142">
                <a:moveTo>
                  <a:pt x="18355" y="9649"/>
                </a:moveTo>
                <a:cubicBezTo>
                  <a:pt x="18333" y="9761"/>
                  <a:pt x="18232" y="9903"/>
                  <a:pt x="18306" y="10021"/>
                </a:cubicBezTo>
                <a:cubicBezTo>
                  <a:pt x="18385" y="10148"/>
                  <a:pt x="18563" y="10043"/>
                  <a:pt x="18628" y="9971"/>
                </a:cubicBezTo>
                <a:cubicBezTo>
                  <a:pt x="18636" y="9955"/>
                  <a:pt x="18645" y="9938"/>
                  <a:pt x="18653" y="9922"/>
                </a:cubicBezTo>
                <a:cubicBezTo>
                  <a:pt x="18519" y="9941"/>
                  <a:pt x="18514" y="9950"/>
                  <a:pt x="1845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286080"/>
            <a:ext cx="777600" cy="30312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9199" y="9128"/>
                </a:moveTo>
                <a:cubicBezTo>
                  <a:pt x="19141" y="9310"/>
                  <a:pt x="19048" y="9557"/>
                  <a:pt x="19124" y="9748"/>
                </a:cubicBezTo>
                <a:cubicBezTo>
                  <a:pt x="19185" y="9829"/>
                  <a:pt x="19190" y="9851"/>
                  <a:pt x="19248" y="9872"/>
                </a:cubicBezTo>
              </a:path>
              <a:path w="2159" h="844">
                <a:moveTo>
                  <a:pt x="19397" y="9252"/>
                </a:moveTo>
                <a:cubicBezTo>
                  <a:pt x="19518" y="9222"/>
                  <a:pt x="19647" y="9218"/>
                  <a:pt x="19546" y="9376"/>
                </a:cubicBezTo>
                <a:cubicBezTo>
                  <a:pt x="19504" y="9418"/>
                  <a:pt x="19496" y="9425"/>
                  <a:pt x="19472" y="9451"/>
                </a:cubicBezTo>
                <a:cubicBezTo>
                  <a:pt x="19560" y="9468"/>
                  <a:pt x="19739" y="9541"/>
                  <a:pt x="19621" y="9674"/>
                </a:cubicBezTo>
                <a:cubicBezTo>
                  <a:pt x="19528" y="9779"/>
                  <a:pt x="19421" y="9729"/>
                  <a:pt x="19323" y="9699"/>
                </a:cubicBezTo>
              </a:path>
              <a:path w="2159" h="844">
                <a:moveTo>
                  <a:pt x="19745" y="9153"/>
                </a:moveTo>
                <a:cubicBezTo>
                  <a:pt x="19912" y="9220"/>
                  <a:pt x="20005" y="9408"/>
                  <a:pt x="20017" y="9599"/>
                </a:cubicBezTo>
                <a:cubicBezTo>
                  <a:pt x="20027" y="9757"/>
                  <a:pt x="19956" y="9855"/>
                  <a:pt x="19869" y="9971"/>
                </a:cubicBezTo>
              </a:path>
              <a:path w="2159" h="844">
                <a:moveTo>
                  <a:pt x="20241" y="9575"/>
                </a:moveTo>
                <a:cubicBezTo>
                  <a:pt x="20331" y="9545"/>
                  <a:pt x="20415" y="9550"/>
                  <a:pt x="20513" y="9550"/>
                </a:cubicBezTo>
              </a:path>
              <a:path w="2159" h="844">
                <a:moveTo>
                  <a:pt x="20662" y="9277"/>
                </a:moveTo>
                <a:cubicBezTo>
                  <a:pt x="20689" y="9441"/>
                  <a:pt x="20741" y="9605"/>
                  <a:pt x="20762" y="9773"/>
                </a:cubicBezTo>
                <a:cubicBezTo>
                  <a:pt x="20762" y="9790"/>
                  <a:pt x="20762" y="9806"/>
                  <a:pt x="20762" y="9823"/>
                </a:cubicBezTo>
              </a:path>
              <a:path w="2159" h="844">
                <a:moveTo>
                  <a:pt x="21134" y="9302"/>
                </a:moveTo>
                <a:cubicBezTo>
                  <a:pt x="21035" y="9379"/>
                  <a:pt x="20864" y="9569"/>
                  <a:pt x="20985" y="9723"/>
                </a:cubicBezTo>
                <a:cubicBezTo>
                  <a:pt x="21073" y="9767"/>
                  <a:pt x="21094" y="9784"/>
                  <a:pt x="21158" y="9773"/>
                </a:cubicBezTo>
                <a:cubicBezTo>
                  <a:pt x="21284" y="9599"/>
                  <a:pt x="21285" y="9539"/>
                  <a:pt x="21134" y="9401"/>
                </a:cubicBezTo>
                <a:cubicBezTo>
                  <a:pt x="21117" y="9384"/>
                  <a:pt x="21101" y="9368"/>
                  <a:pt x="21084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02080" y="373212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2278" y="10468"/>
                </a:moveTo>
                <a:cubicBezTo>
                  <a:pt x="12355" y="10426"/>
                  <a:pt x="12575" y="10258"/>
                  <a:pt x="12626" y="10443"/>
                </a:cubicBezTo>
                <a:cubicBezTo>
                  <a:pt x="12658" y="10560"/>
                  <a:pt x="12522" y="10625"/>
                  <a:pt x="12452" y="10666"/>
                </a:cubicBezTo>
                <a:cubicBezTo>
                  <a:pt x="12588" y="10734"/>
                  <a:pt x="12697" y="10891"/>
                  <a:pt x="12477" y="10988"/>
                </a:cubicBezTo>
                <a:cubicBezTo>
                  <a:pt x="12344" y="11010"/>
                  <a:pt x="12310" y="11023"/>
                  <a:pt x="1222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81880" y="3741840"/>
            <a:ext cx="105408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18380" y="10468"/>
                </a:moveTo>
                <a:cubicBezTo>
                  <a:pt x="18362" y="10613"/>
                  <a:pt x="18305" y="10750"/>
                  <a:pt x="18281" y="10889"/>
                </a:cubicBezTo>
                <a:cubicBezTo>
                  <a:pt x="18248" y="11083"/>
                  <a:pt x="18409" y="11077"/>
                  <a:pt x="18554" y="11038"/>
                </a:cubicBezTo>
                <a:cubicBezTo>
                  <a:pt x="18696" y="11000"/>
                  <a:pt x="18690" y="10983"/>
                  <a:pt x="18703" y="10864"/>
                </a:cubicBezTo>
                <a:cubicBezTo>
                  <a:pt x="18605" y="10843"/>
                  <a:pt x="18485" y="10878"/>
                  <a:pt x="18479" y="11013"/>
                </a:cubicBezTo>
                <a:cubicBezTo>
                  <a:pt x="18487" y="11030"/>
                  <a:pt x="18496" y="11046"/>
                  <a:pt x="18504" y="11063"/>
                </a:cubicBezTo>
              </a:path>
              <a:path w="2928" h="745">
                <a:moveTo>
                  <a:pt x="19075" y="10393"/>
                </a:moveTo>
                <a:cubicBezTo>
                  <a:pt x="18954" y="10538"/>
                  <a:pt x="18913" y="10757"/>
                  <a:pt x="18926" y="10964"/>
                </a:cubicBezTo>
                <a:cubicBezTo>
                  <a:pt x="18936" y="11118"/>
                  <a:pt x="19008" y="11114"/>
                  <a:pt x="19124" y="11137"/>
                </a:cubicBezTo>
              </a:path>
              <a:path w="2928" h="745">
                <a:moveTo>
                  <a:pt x="19199" y="10616"/>
                </a:moveTo>
                <a:cubicBezTo>
                  <a:pt x="19391" y="10596"/>
                  <a:pt x="19487" y="10601"/>
                  <a:pt x="19323" y="10765"/>
                </a:cubicBezTo>
                <a:cubicBezTo>
                  <a:pt x="19421" y="10805"/>
                  <a:pt x="19449" y="10817"/>
                  <a:pt x="19521" y="10889"/>
                </a:cubicBezTo>
                <a:cubicBezTo>
                  <a:pt x="19441" y="11036"/>
                  <a:pt x="19366" y="11035"/>
                  <a:pt x="19199" y="11013"/>
                </a:cubicBezTo>
              </a:path>
              <a:path w="2928" h="745">
                <a:moveTo>
                  <a:pt x="19546" y="10418"/>
                </a:moveTo>
                <a:cubicBezTo>
                  <a:pt x="19653" y="10558"/>
                  <a:pt x="19863" y="10768"/>
                  <a:pt x="19844" y="10964"/>
                </a:cubicBezTo>
                <a:cubicBezTo>
                  <a:pt x="19832" y="11080"/>
                  <a:pt x="19730" y="11102"/>
                  <a:pt x="19645" y="11137"/>
                </a:cubicBezTo>
              </a:path>
              <a:path w="2928" h="745">
                <a:moveTo>
                  <a:pt x="20092" y="10765"/>
                </a:moveTo>
                <a:cubicBezTo>
                  <a:pt x="20183" y="10765"/>
                  <a:pt x="20274" y="10765"/>
                  <a:pt x="20365" y="10765"/>
                </a:cubicBezTo>
              </a:path>
              <a:path w="2928" h="745">
                <a:moveTo>
                  <a:pt x="20687" y="10567"/>
                </a:moveTo>
                <a:cubicBezTo>
                  <a:pt x="20695" y="10708"/>
                  <a:pt x="20709" y="10833"/>
                  <a:pt x="20762" y="10964"/>
                </a:cubicBezTo>
              </a:path>
              <a:path w="2928" h="745">
                <a:moveTo>
                  <a:pt x="21034" y="10666"/>
                </a:moveTo>
                <a:cubicBezTo>
                  <a:pt x="20941" y="10742"/>
                  <a:pt x="20942" y="10824"/>
                  <a:pt x="20960" y="10939"/>
                </a:cubicBezTo>
                <a:cubicBezTo>
                  <a:pt x="21068" y="10956"/>
                  <a:pt x="21218" y="10971"/>
                  <a:pt x="21208" y="10815"/>
                </a:cubicBezTo>
                <a:cubicBezTo>
                  <a:pt x="21199" y="10680"/>
                  <a:pt x="21114" y="10668"/>
                  <a:pt x="2101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4062240"/>
            <a:ext cx="733320" cy="546120"/>
          </a:xfrm>
          <a:custGeom>
            <a:avLst/>
            <a:gdLst/>
            <a:ahLst/>
            <a:rect l="l" t="t" r="r" b="b"/>
            <a:pathLst>
              <a:path w="2035" h="1514">
                <a:moveTo>
                  <a:pt x="18703" y="11311"/>
                </a:moveTo>
                <a:cubicBezTo>
                  <a:pt x="18754" y="11453"/>
                  <a:pt x="18752" y="11582"/>
                  <a:pt x="18752" y="11733"/>
                </a:cubicBezTo>
              </a:path>
              <a:path w="2035" h="1514">
                <a:moveTo>
                  <a:pt x="19273" y="11336"/>
                </a:moveTo>
                <a:cubicBezTo>
                  <a:pt x="19223" y="11347"/>
                  <a:pt x="19075" y="11381"/>
                  <a:pt x="19075" y="11460"/>
                </a:cubicBezTo>
                <a:cubicBezTo>
                  <a:pt x="19075" y="11576"/>
                  <a:pt x="19259" y="11622"/>
                  <a:pt x="19323" y="11708"/>
                </a:cubicBezTo>
                <a:cubicBezTo>
                  <a:pt x="19315" y="11724"/>
                  <a:pt x="19306" y="11741"/>
                  <a:pt x="19298" y="11757"/>
                </a:cubicBezTo>
                <a:cubicBezTo>
                  <a:pt x="19122" y="11769"/>
                  <a:pt x="19063" y="11723"/>
                  <a:pt x="19149" y="11534"/>
                </a:cubicBezTo>
                <a:cubicBezTo>
                  <a:pt x="19186" y="11453"/>
                  <a:pt x="19206" y="11430"/>
                  <a:pt x="19273" y="11410"/>
                </a:cubicBezTo>
              </a:path>
              <a:path w="2035" h="1514">
                <a:moveTo>
                  <a:pt x="19621" y="11534"/>
                </a:moveTo>
                <a:cubicBezTo>
                  <a:pt x="19679" y="11534"/>
                  <a:pt x="19736" y="11534"/>
                  <a:pt x="19794" y="11534"/>
                </a:cubicBezTo>
              </a:path>
              <a:path w="2035" h="1514">
                <a:moveTo>
                  <a:pt x="20191" y="11311"/>
                </a:moveTo>
                <a:cubicBezTo>
                  <a:pt x="20207" y="11424"/>
                  <a:pt x="20266" y="11525"/>
                  <a:pt x="20290" y="11633"/>
                </a:cubicBezTo>
                <a:cubicBezTo>
                  <a:pt x="20290" y="11650"/>
                  <a:pt x="20290" y="11666"/>
                  <a:pt x="20290" y="11683"/>
                </a:cubicBezTo>
              </a:path>
              <a:path w="2035" h="1514">
                <a:moveTo>
                  <a:pt x="20563" y="11286"/>
                </a:moveTo>
                <a:cubicBezTo>
                  <a:pt x="20449" y="11400"/>
                  <a:pt x="20445" y="11499"/>
                  <a:pt x="20464" y="11658"/>
                </a:cubicBezTo>
                <a:cubicBezTo>
                  <a:pt x="20555" y="11670"/>
                  <a:pt x="20819" y="11675"/>
                  <a:pt x="20737" y="11485"/>
                </a:cubicBezTo>
                <a:cubicBezTo>
                  <a:pt x="20663" y="11411"/>
                  <a:pt x="20639" y="11386"/>
                  <a:pt x="20563" y="11385"/>
                </a:cubicBezTo>
              </a:path>
              <a:path w="2035" h="1514">
                <a:moveTo>
                  <a:pt x="20067" y="12055"/>
                </a:moveTo>
                <a:cubicBezTo>
                  <a:pt x="19931" y="12000"/>
                  <a:pt x="19911" y="11982"/>
                  <a:pt x="19794" y="12080"/>
                </a:cubicBezTo>
                <a:cubicBezTo>
                  <a:pt x="19850" y="12178"/>
                  <a:pt x="20077" y="12237"/>
                  <a:pt x="20092" y="12328"/>
                </a:cubicBezTo>
                <a:cubicBezTo>
                  <a:pt x="20084" y="12345"/>
                  <a:pt x="20075" y="12361"/>
                  <a:pt x="20067" y="12378"/>
                </a:cubicBezTo>
                <a:cubicBezTo>
                  <a:pt x="19871" y="12443"/>
                  <a:pt x="19921" y="12339"/>
                  <a:pt x="19968" y="12179"/>
                </a:cubicBezTo>
                <a:cubicBezTo>
                  <a:pt x="19989" y="12095"/>
                  <a:pt x="19991" y="12076"/>
                  <a:pt x="20017" y="12030"/>
                </a:cubicBezTo>
              </a:path>
              <a:path w="2035" h="1514">
                <a:moveTo>
                  <a:pt x="19472" y="12601"/>
                </a:moveTo>
                <a:cubicBezTo>
                  <a:pt x="19644" y="12715"/>
                  <a:pt x="19834" y="12707"/>
                  <a:pt x="20042" y="12675"/>
                </a:cubicBezTo>
                <a:cubicBezTo>
                  <a:pt x="20263" y="12641"/>
                  <a:pt x="20446" y="12602"/>
                  <a:pt x="20538" y="12378"/>
                </a:cubicBezTo>
                <a:cubicBezTo>
                  <a:pt x="20609" y="12204"/>
                  <a:pt x="20455" y="12041"/>
                  <a:pt x="20315" y="11956"/>
                </a:cubicBezTo>
                <a:cubicBezTo>
                  <a:pt x="20182" y="11875"/>
                  <a:pt x="19995" y="11861"/>
                  <a:pt x="19844" y="11857"/>
                </a:cubicBezTo>
                <a:cubicBezTo>
                  <a:pt x="19723" y="11854"/>
                  <a:pt x="19621" y="11853"/>
                  <a:pt x="19521" y="11931"/>
                </a:cubicBezTo>
                <a:cubicBezTo>
                  <a:pt x="19376" y="12045"/>
                  <a:pt x="19270" y="12192"/>
                  <a:pt x="19248" y="12378"/>
                </a:cubicBezTo>
                <a:cubicBezTo>
                  <a:pt x="19225" y="12573"/>
                  <a:pt x="19315" y="12711"/>
                  <a:pt x="19496" y="12774"/>
                </a:cubicBezTo>
                <a:cubicBezTo>
                  <a:pt x="19593" y="12808"/>
                  <a:pt x="19694" y="12799"/>
                  <a:pt x="19794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4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+ 32   when N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+ 3 x N   when 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67320" y="1581120"/>
            <a:ext cx="455760" cy="455760"/>
          </a:xfrm>
          <a:custGeom>
            <a:avLst/>
            <a:gdLst/>
            <a:ahLst/>
            <a:rect l="l" t="t" r="r" b="b"/>
            <a:pathLst>
              <a:path w="1266" h="1266">
                <a:moveTo>
                  <a:pt x="18008" y="4490"/>
                </a:moveTo>
                <a:cubicBezTo>
                  <a:pt x="18081" y="4443"/>
                  <a:pt x="18102" y="4425"/>
                  <a:pt x="18182" y="4415"/>
                </a:cubicBezTo>
                <a:cubicBezTo>
                  <a:pt x="18002" y="4385"/>
                  <a:pt x="17952" y="4364"/>
                  <a:pt x="17835" y="4514"/>
                </a:cubicBezTo>
                <a:cubicBezTo>
                  <a:pt x="17797" y="4571"/>
                  <a:pt x="17780" y="4574"/>
                  <a:pt x="17785" y="4614"/>
                </a:cubicBezTo>
                <a:cubicBezTo>
                  <a:pt x="17964" y="4626"/>
                  <a:pt x="18052" y="4621"/>
                  <a:pt x="18107" y="4787"/>
                </a:cubicBezTo>
                <a:cubicBezTo>
                  <a:pt x="17911" y="4881"/>
                  <a:pt x="17895" y="4863"/>
                  <a:pt x="17686" y="4787"/>
                </a:cubicBezTo>
              </a:path>
              <a:path w="1266" h="1266">
                <a:moveTo>
                  <a:pt x="18355" y="4465"/>
                </a:moveTo>
                <a:cubicBezTo>
                  <a:pt x="18298" y="4570"/>
                  <a:pt x="18214" y="4946"/>
                  <a:pt x="18504" y="4787"/>
                </a:cubicBezTo>
                <a:cubicBezTo>
                  <a:pt x="18687" y="4687"/>
                  <a:pt x="18647" y="4587"/>
                  <a:pt x="18604" y="4440"/>
                </a:cubicBezTo>
              </a:path>
              <a:path w="1266" h="1266">
                <a:moveTo>
                  <a:pt x="17735" y="5035"/>
                </a:moveTo>
                <a:cubicBezTo>
                  <a:pt x="17971" y="5021"/>
                  <a:pt x="18174" y="5027"/>
                  <a:pt x="18405" y="5085"/>
                </a:cubicBezTo>
              </a:path>
              <a:path w="1266" h="1266">
                <a:moveTo>
                  <a:pt x="18256" y="5259"/>
                </a:moveTo>
                <a:cubicBezTo>
                  <a:pt x="18166" y="5268"/>
                  <a:pt x="17951" y="5243"/>
                  <a:pt x="17884" y="5283"/>
                </a:cubicBezTo>
                <a:cubicBezTo>
                  <a:pt x="17841" y="5348"/>
                  <a:pt x="17830" y="5363"/>
                  <a:pt x="17810" y="5407"/>
                </a:cubicBezTo>
                <a:cubicBezTo>
                  <a:pt x="17897" y="5431"/>
                  <a:pt x="18091" y="5405"/>
                  <a:pt x="18157" y="5482"/>
                </a:cubicBezTo>
                <a:cubicBezTo>
                  <a:pt x="18312" y="5665"/>
                  <a:pt x="17945" y="5637"/>
                  <a:pt x="17884" y="5631"/>
                </a:cubicBezTo>
              </a:path>
              <a:path w="1266" h="1266">
                <a:moveTo>
                  <a:pt x="18852" y="5135"/>
                </a:moveTo>
                <a:cubicBezTo>
                  <a:pt x="18885" y="5143"/>
                  <a:pt x="18918" y="5151"/>
                  <a:pt x="18951" y="5159"/>
                </a:cubicBezTo>
              </a:path>
              <a:path w="1266" h="1266">
                <a:moveTo>
                  <a:pt x="18728" y="5308"/>
                </a:moveTo>
                <a:cubicBezTo>
                  <a:pt x="18777" y="5308"/>
                  <a:pt x="18827" y="5308"/>
                  <a:pt x="18876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8200" y="1820880"/>
            <a:ext cx="30492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19621" y="5110"/>
                </a:moveTo>
                <a:cubicBezTo>
                  <a:pt x="19581" y="5224"/>
                  <a:pt x="19549" y="5327"/>
                  <a:pt x="19496" y="5432"/>
                </a:cubicBezTo>
              </a:path>
              <a:path w="845" h="423">
                <a:moveTo>
                  <a:pt x="20092" y="5060"/>
                </a:moveTo>
                <a:cubicBezTo>
                  <a:pt x="20008" y="5138"/>
                  <a:pt x="19760" y="5392"/>
                  <a:pt x="19993" y="5482"/>
                </a:cubicBezTo>
                <a:cubicBezTo>
                  <a:pt x="20142" y="5540"/>
                  <a:pt x="20450" y="5309"/>
                  <a:pt x="20315" y="5159"/>
                </a:cubicBezTo>
                <a:cubicBezTo>
                  <a:pt x="20274" y="5134"/>
                  <a:pt x="20232" y="5110"/>
                  <a:pt x="20191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7120" y="3116160"/>
            <a:ext cx="250920" cy="1890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7516" y="8756"/>
                </a:moveTo>
                <a:cubicBezTo>
                  <a:pt x="7500" y="8900"/>
                  <a:pt x="7491" y="9033"/>
                  <a:pt x="7491" y="9178"/>
                </a:cubicBezTo>
              </a:path>
              <a:path w="696" h="522">
                <a:moveTo>
                  <a:pt x="7813" y="8731"/>
                </a:moveTo>
                <a:cubicBezTo>
                  <a:pt x="7865" y="8654"/>
                  <a:pt x="7885" y="8630"/>
                  <a:pt x="7962" y="8657"/>
                </a:cubicBezTo>
                <a:cubicBezTo>
                  <a:pt x="8011" y="8820"/>
                  <a:pt x="7964" y="8911"/>
                  <a:pt x="7838" y="9029"/>
                </a:cubicBezTo>
                <a:cubicBezTo>
                  <a:pt x="7813" y="9046"/>
                  <a:pt x="7789" y="9062"/>
                  <a:pt x="7764" y="9079"/>
                </a:cubicBezTo>
                <a:cubicBezTo>
                  <a:pt x="7922" y="9056"/>
                  <a:pt x="8023" y="9025"/>
                  <a:pt x="8186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6880" y="2894040"/>
            <a:ext cx="831960" cy="54432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11410" y="9153"/>
                </a:moveTo>
                <a:cubicBezTo>
                  <a:pt x="11502" y="9088"/>
                  <a:pt x="11608" y="9034"/>
                  <a:pt x="11708" y="8979"/>
                </a:cubicBezTo>
              </a:path>
              <a:path w="2308" h="1514">
                <a:moveTo>
                  <a:pt x="11410" y="9401"/>
                </a:moveTo>
                <a:cubicBezTo>
                  <a:pt x="11528" y="9322"/>
                  <a:pt x="11646" y="9241"/>
                  <a:pt x="11782" y="9203"/>
                </a:cubicBezTo>
              </a:path>
              <a:path w="2308" h="1514">
                <a:moveTo>
                  <a:pt x="12154" y="8806"/>
                </a:moveTo>
                <a:cubicBezTo>
                  <a:pt x="12148" y="8898"/>
                  <a:pt x="12150" y="8949"/>
                  <a:pt x="12105" y="9029"/>
                </a:cubicBezTo>
                <a:cubicBezTo>
                  <a:pt x="12233" y="9015"/>
                  <a:pt x="12350" y="8985"/>
                  <a:pt x="12477" y="8954"/>
                </a:cubicBezTo>
              </a:path>
              <a:path w="2308" h="1514">
                <a:moveTo>
                  <a:pt x="12526" y="8533"/>
                </a:moveTo>
                <a:cubicBezTo>
                  <a:pt x="12468" y="8753"/>
                  <a:pt x="12488" y="8977"/>
                  <a:pt x="12452" y="9203"/>
                </a:cubicBezTo>
                <a:cubicBezTo>
                  <a:pt x="12444" y="9236"/>
                  <a:pt x="12435" y="9269"/>
                  <a:pt x="12427" y="9302"/>
                </a:cubicBezTo>
              </a:path>
              <a:path w="2308" h="1514">
                <a:moveTo>
                  <a:pt x="12725" y="8682"/>
                </a:moveTo>
                <a:cubicBezTo>
                  <a:pt x="12779" y="8780"/>
                  <a:pt x="12684" y="8920"/>
                  <a:pt x="12849" y="8930"/>
                </a:cubicBezTo>
                <a:cubicBezTo>
                  <a:pt x="12882" y="8922"/>
                  <a:pt x="12915" y="8913"/>
                  <a:pt x="12948" y="8905"/>
                </a:cubicBezTo>
              </a:path>
              <a:path w="2308" h="1514">
                <a:moveTo>
                  <a:pt x="13072" y="8409"/>
                </a:moveTo>
                <a:cubicBezTo>
                  <a:pt x="13056" y="8649"/>
                  <a:pt x="13072" y="8885"/>
                  <a:pt x="13072" y="9128"/>
                </a:cubicBezTo>
              </a:path>
              <a:path w="2308" h="1514">
                <a:moveTo>
                  <a:pt x="12030" y="9426"/>
                </a:moveTo>
                <a:cubicBezTo>
                  <a:pt x="12365" y="9426"/>
                  <a:pt x="12671" y="9440"/>
                  <a:pt x="12998" y="9351"/>
                </a:cubicBezTo>
                <a:cubicBezTo>
                  <a:pt x="13222" y="9290"/>
                  <a:pt x="13645" y="9177"/>
                  <a:pt x="13717" y="8905"/>
                </a:cubicBezTo>
                <a:cubicBezTo>
                  <a:pt x="13801" y="8588"/>
                  <a:pt x="13628" y="8268"/>
                  <a:pt x="13345" y="8136"/>
                </a:cubicBezTo>
                <a:cubicBezTo>
                  <a:pt x="13049" y="7998"/>
                  <a:pt x="12689" y="8008"/>
                  <a:pt x="12402" y="8161"/>
                </a:cubicBezTo>
                <a:cubicBezTo>
                  <a:pt x="12106" y="8318"/>
                  <a:pt x="11927" y="8613"/>
                  <a:pt x="11956" y="8954"/>
                </a:cubicBezTo>
                <a:cubicBezTo>
                  <a:pt x="11982" y="9258"/>
                  <a:pt x="12194" y="9375"/>
                  <a:pt x="12402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83080" y="4152960"/>
            <a:ext cx="187200" cy="339840"/>
          </a:xfrm>
          <a:custGeom>
            <a:avLst/>
            <a:gdLst/>
            <a:ahLst/>
            <a:rect l="l" t="t" r="r" b="b"/>
            <a:pathLst>
              <a:path w="522" h="944">
                <a:moveTo>
                  <a:pt x="12576" y="11832"/>
                </a:moveTo>
                <a:cubicBezTo>
                  <a:pt x="12557" y="11971"/>
                  <a:pt x="12517" y="12054"/>
                  <a:pt x="12452" y="12179"/>
                </a:cubicBezTo>
                <a:cubicBezTo>
                  <a:pt x="12631" y="12134"/>
                  <a:pt x="12744" y="12140"/>
                  <a:pt x="12923" y="12154"/>
                </a:cubicBezTo>
              </a:path>
              <a:path w="522" h="944">
                <a:moveTo>
                  <a:pt x="12973" y="11534"/>
                </a:moveTo>
                <a:cubicBezTo>
                  <a:pt x="12897" y="11760"/>
                  <a:pt x="12888" y="12037"/>
                  <a:pt x="12824" y="12278"/>
                </a:cubicBezTo>
                <a:cubicBezTo>
                  <a:pt x="12785" y="12393"/>
                  <a:pt x="12769" y="12407"/>
                  <a:pt x="12774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6200" y="4822920"/>
            <a:ext cx="2394000" cy="981000"/>
          </a:xfrm>
          <a:custGeom>
            <a:avLst/>
            <a:gdLst/>
            <a:ahLst/>
            <a:rect l="l" t="t" r="r" b="b"/>
            <a:pathLst>
              <a:path w="6649" h="2729">
                <a:moveTo>
                  <a:pt x="6846" y="13494"/>
                </a:moveTo>
                <a:cubicBezTo>
                  <a:pt x="6808" y="13550"/>
                  <a:pt x="6791" y="13553"/>
                  <a:pt x="6796" y="13593"/>
                </a:cubicBezTo>
                <a:cubicBezTo>
                  <a:pt x="7022" y="13593"/>
                  <a:pt x="7242" y="13591"/>
                  <a:pt x="7466" y="13618"/>
                </a:cubicBezTo>
                <a:cubicBezTo>
                  <a:pt x="7657" y="13641"/>
                  <a:pt x="7847" y="13700"/>
                  <a:pt x="8037" y="13717"/>
                </a:cubicBezTo>
                <a:cubicBezTo>
                  <a:pt x="8100" y="13723"/>
                  <a:pt x="8170" y="13717"/>
                  <a:pt x="8235" y="13717"/>
                </a:cubicBezTo>
                <a:cubicBezTo>
                  <a:pt x="8253" y="13608"/>
                  <a:pt x="8267" y="13490"/>
                  <a:pt x="8310" y="13395"/>
                </a:cubicBezTo>
              </a:path>
              <a:path w="6649" h="2729">
                <a:moveTo>
                  <a:pt x="7863" y="14064"/>
                </a:moveTo>
                <a:cubicBezTo>
                  <a:pt x="7762" y="14098"/>
                  <a:pt x="7598" y="14074"/>
                  <a:pt x="7516" y="14114"/>
                </a:cubicBezTo>
                <a:cubicBezTo>
                  <a:pt x="7394" y="14173"/>
                  <a:pt x="7393" y="14350"/>
                  <a:pt x="7367" y="14461"/>
                </a:cubicBezTo>
                <a:cubicBezTo>
                  <a:pt x="7536" y="14414"/>
                  <a:pt x="7792" y="14301"/>
                  <a:pt x="7913" y="14511"/>
                </a:cubicBezTo>
                <a:cubicBezTo>
                  <a:pt x="8071" y="14784"/>
                  <a:pt x="7572" y="14903"/>
                  <a:pt x="7417" y="14908"/>
                </a:cubicBezTo>
                <a:cubicBezTo>
                  <a:pt x="7367" y="14900"/>
                  <a:pt x="7318" y="14891"/>
                  <a:pt x="7268" y="14883"/>
                </a:cubicBezTo>
              </a:path>
              <a:path w="6649" h="2729">
                <a:moveTo>
                  <a:pt x="8533" y="14188"/>
                </a:moveTo>
                <a:cubicBezTo>
                  <a:pt x="8555" y="14353"/>
                  <a:pt x="8565" y="14517"/>
                  <a:pt x="8582" y="14684"/>
                </a:cubicBezTo>
              </a:path>
              <a:path w="6649" h="2729">
                <a:moveTo>
                  <a:pt x="8458" y="14486"/>
                </a:moveTo>
                <a:cubicBezTo>
                  <a:pt x="8699" y="14462"/>
                  <a:pt x="8776" y="14455"/>
                  <a:pt x="8930" y="14412"/>
                </a:cubicBezTo>
              </a:path>
              <a:path w="6649" h="2729">
                <a:moveTo>
                  <a:pt x="9178" y="14139"/>
                </a:moveTo>
                <a:cubicBezTo>
                  <a:pt x="9262" y="14118"/>
                  <a:pt x="9538" y="14083"/>
                  <a:pt x="9426" y="14263"/>
                </a:cubicBezTo>
                <a:cubicBezTo>
                  <a:pt x="9336" y="14353"/>
                  <a:pt x="9315" y="14383"/>
                  <a:pt x="9227" y="14387"/>
                </a:cubicBezTo>
                <a:cubicBezTo>
                  <a:pt x="9356" y="14442"/>
                  <a:pt x="9533" y="14438"/>
                  <a:pt x="9525" y="14635"/>
                </a:cubicBezTo>
                <a:cubicBezTo>
                  <a:pt x="9517" y="14827"/>
                  <a:pt x="9296" y="14818"/>
                  <a:pt x="9178" y="14833"/>
                </a:cubicBezTo>
              </a:path>
              <a:path w="6649" h="2729">
                <a:moveTo>
                  <a:pt x="9798" y="14213"/>
                </a:moveTo>
                <a:cubicBezTo>
                  <a:pt x="9919" y="14377"/>
                  <a:pt x="10047" y="14530"/>
                  <a:pt x="10145" y="14709"/>
                </a:cubicBezTo>
              </a:path>
              <a:path w="6649" h="2729">
                <a:moveTo>
                  <a:pt x="10195" y="14263"/>
                </a:moveTo>
                <a:cubicBezTo>
                  <a:pt x="10120" y="14423"/>
                  <a:pt x="10046" y="14563"/>
                  <a:pt x="9947" y="14709"/>
                </a:cubicBezTo>
              </a:path>
              <a:path w="6649" h="2729">
                <a:moveTo>
                  <a:pt x="10418" y="14163"/>
                </a:moveTo>
                <a:cubicBezTo>
                  <a:pt x="10434" y="14215"/>
                  <a:pt x="10452" y="14417"/>
                  <a:pt x="10492" y="14436"/>
                </a:cubicBezTo>
                <a:cubicBezTo>
                  <a:pt x="10610" y="14492"/>
                  <a:pt x="10745" y="14434"/>
                  <a:pt x="10864" y="14412"/>
                </a:cubicBezTo>
              </a:path>
              <a:path w="6649" h="2729">
                <a:moveTo>
                  <a:pt x="10914" y="14015"/>
                </a:moveTo>
                <a:cubicBezTo>
                  <a:pt x="10859" y="14248"/>
                  <a:pt x="10833" y="14519"/>
                  <a:pt x="10840" y="14759"/>
                </a:cubicBezTo>
                <a:cubicBezTo>
                  <a:pt x="10848" y="14800"/>
                  <a:pt x="10856" y="14842"/>
                  <a:pt x="10864" y="14883"/>
                </a:cubicBezTo>
              </a:path>
              <a:path w="6649" h="2729">
                <a:moveTo>
                  <a:pt x="9475" y="14833"/>
                </a:moveTo>
                <a:cubicBezTo>
                  <a:pt x="9475" y="14932"/>
                  <a:pt x="9475" y="15032"/>
                  <a:pt x="9475" y="15131"/>
                </a:cubicBezTo>
                <a:cubicBezTo>
                  <a:pt x="9703" y="15131"/>
                  <a:pt x="9918" y="15044"/>
                  <a:pt x="10145" y="15007"/>
                </a:cubicBezTo>
                <a:cubicBezTo>
                  <a:pt x="10332" y="14976"/>
                  <a:pt x="10550" y="15048"/>
                  <a:pt x="10468" y="14833"/>
                </a:cubicBezTo>
              </a:path>
              <a:path w="6649" h="2729">
                <a:moveTo>
                  <a:pt x="9748" y="15453"/>
                </a:moveTo>
                <a:cubicBezTo>
                  <a:pt x="9771" y="15560"/>
                  <a:pt x="9781" y="15666"/>
                  <a:pt x="9798" y="15776"/>
                </a:cubicBezTo>
              </a:path>
              <a:path w="6649" h="2729">
                <a:moveTo>
                  <a:pt x="10120" y="15404"/>
                </a:moveTo>
                <a:cubicBezTo>
                  <a:pt x="10232" y="15494"/>
                  <a:pt x="10608" y="15757"/>
                  <a:pt x="10220" y="15801"/>
                </a:cubicBezTo>
                <a:cubicBezTo>
                  <a:pt x="10179" y="15793"/>
                  <a:pt x="10137" y="15784"/>
                  <a:pt x="10096" y="15776"/>
                </a:cubicBezTo>
                <a:cubicBezTo>
                  <a:pt x="10157" y="15612"/>
                  <a:pt x="10281" y="15697"/>
                  <a:pt x="10418" y="15751"/>
                </a:cubicBezTo>
              </a:path>
              <a:path w="6649" h="2729">
                <a:moveTo>
                  <a:pt x="8632" y="15304"/>
                </a:moveTo>
                <a:cubicBezTo>
                  <a:pt x="8543" y="15328"/>
                  <a:pt x="8449" y="15374"/>
                  <a:pt x="8359" y="15379"/>
                </a:cubicBezTo>
                <a:cubicBezTo>
                  <a:pt x="8259" y="15385"/>
                  <a:pt x="8265" y="15495"/>
                  <a:pt x="8235" y="15577"/>
                </a:cubicBezTo>
                <a:cubicBezTo>
                  <a:pt x="8356" y="15567"/>
                  <a:pt x="8520" y="15493"/>
                  <a:pt x="8607" y="15627"/>
                </a:cubicBezTo>
                <a:cubicBezTo>
                  <a:pt x="8755" y="15855"/>
                  <a:pt x="8395" y="15983"/>
                  <a:pt x="8235" y="15949"/>
                </a:cubicBezTo>
                <a:cubicBezTo>
                  <a:pt x="8115" y="15889"/>
                  <a:pt x="8088" y="15888"/>
                  <a:pt x="8037" y="15825"/>
                </a:cubicBezTo>
              </a:path>
              <a:path w="6649" h="2729">
                <a:moveTo>
                  <a:pt x="9004" y="15478"/>
                </a:moveTo>
                <a:cubicBezTo>
                  <a:pt x="9011" y="15581"/>
                  <a:pt x="9030" y="15675"/>
                  <a:pt x="9054" y="15776"/>
                </a:cubicBezTo>
              </a:path>
              <a:path w="6649" h="2729">
                <a:moveTo>
                  <a:pt x="9004" y="15602"/>
                </a:moveTo>
                <a:cubicBezTo>
                  <a:pt x="9054" y="15594"/>
                  <a:pt x="9103" y="15585"/>
                  <a:pt x="9153" y="15577"/>
                </a:cubicBezTo>
              </a:path>
              <a:path w="6649" h="2729">
                <a:moveTo>
                  <a:pt x="10815" y="15453"/>
                </a:moveTo>
                <a:cubicBezTo>
                  <a:pt x="10939" y="15453"/>
                  <a:pt x="11063" y="15453"/>
                  <a:pt x="11187" y="15453"/>
                </a:cubicBezTo>
              </a:path>
              <a:path w="6649" h="2729">
                <a:moveTo>
                  <a:pt x="10864" y="15652"/>
                </a:moveTo>
                <a:cubicBezTo>
                  <a:pt x="10914" y="15652"/>
                  <a:pt x="10963" y="15652"/>
                  <a:pt x="11013" y="15652"/>
                </a:cubicBezTo>
              </a:path>
              <a:path w="6649" h="2729">
                <a:moveTo>
                  <a:pt x="11782" y="15280"/>
                </a:moveTo>
                <a:cubicBezTo>
                  <a:pt x="11822" y="15462"/>
                  <a:pt x="11882" y="15643"/>
                  <a:pt x="11906" y="15825"/>
                </a:cubicBezTo>
              </a:path>
              <a:path w="6649" h="2729">
                <a:moveTo>
                  <a:pt x="12254" y="15230"/>
                </a:moveTo>
                <a:cubicBezTo>
                  <a:pt x="12427" y="15230"/>
                  <a:pt x="12601" y="15230"/>
                  <a:pt x="12774" y="15230"/>
                </a:cubicBezTo>
                <a:cubicBezTo>
                  <a:pt x="12735" y="15437"/>
                  <a:pt x="12694" y="15644"/>
                  <a:pt x="12650" y="15850"/>
                </a:cubicBezTo>
              </a:path>
              <a:path w="6649" h="2729">
                <a:moveTo>
                  <a:pt x="11435" y="16049"/>
                </a:moveTo>
                <a:cubicBezTo>
                  <a:pt x="11875" y="16147"/>
                  <a:pt x="12256" y="16107"/>
                  <a:pt x="12700" y="16024"/>
                </a:cubicBezTo>
                <a:cubicBezTo>
                  <a:pt x="13155" y="15939"/>
                  <a:pt x="13572" y="15711"/>
                  <a:pt x="13444" y="15156"/>
                </a:cubicBezTo>
                <a:cubicBezTo>
                  <a:pt x="13258" y="14350"/>
                  <a:pt x="11963" y="14639"/>
                  <a:pt x="11509" y="14982"/>
                </a:cubicBezTo>
                <a:cubicBezTo>
                  <a:pt x="10905" y="15438"/>
                  <a:pt x="11250" y="15684"/>
                  <a:pt x="11584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expression represents “ the product of K and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+ 5    b. 5k     c. K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  d.  k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3n – 2     n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8880" y="1633680"/>
            <a:ext cx="1206360" cy="1287360"/>
          </a:xfrm>
          <a:custGeom>
            <a:avLst/>
            <a:gdLst/>
            <a:ahLst/>
            <a:rect l="l" t="t" r="r" b="b"/>
            <a:pathLst>
              <a:path w="3350" h="3573">
                <a:moveTo>
                  <a:pt x="10641" y="4787"/>
                </a:moveTo>
                <a:cubicBezTo>
                  <a:pt x="10740" y="4829"/>
                  <a:pt x="10825" y="5010"/>
                  <a:pt x="10914" y="5110"/>
                </a:cubicBezTo>
                <a:cubicBezTo>
                  <a:pt x="10939" y="5135"/>
                  <a:pt x="10963" y="5159"/>
                  <a:pt x="10988" y="5184"/>
                </a:cubicBezTo>
              </a:path>
              <a:path w="3350" h="3573">
                <a:moveTo>
                  <a:pt x="11088" y="4539"/>
                </a:moveTo>
                <a:cubicBezTo>
                  <a:pt x="10970" y="4762"/>
                  <a:pt x="10834" y="4954"/>
                  <a:pt x="10691" y="5159"/>
                </a:cubicBezTo>
                <a:cubicBezTo>
                  <a:pt x="10671" y="5200"/>
                  <a:pt x="10662" y="5206"/>
                  <a:pt x="10666" y="5234"/>
                </a:cubicBezTo>
              </a:path>
              <a:path w="3350" h="3573">
                <a:moveTo>
                  <a:pt x="8880" y="7913"/>
                </a:moveTo>
                <a:cubicBezTo>
                  <a:pt x="9081" y="7937"/>
                  <a:pt x="9269" y="7875"/>
                  <a:pt x="9475" y="7863"/>
                </a:cubicBezTo>
                <a:cubicBezTo>
                  <a:pt x="9732" y="7848"/>
                  <a:pt x="9987" y="7802"/>
                  <a:pt x="10244" y="7789"/>
                </a:cubicBezTo>
                <a:cubicBezTo>
                  <a:pt x="10490" y="7777"/>
                  <a:pt x="10678" y="7747"/>
                  <a:pt x="10914" y="7689"/>
                </a:cubicBezTo>
                <a:cubicBezTo>
                  <a:pt x="11089" y="7646"/>
                  <a:pt x="11262" y="7613"/>
                  <a:pt x="11435" y="7565"/>
                </a:cubicBezTo>
                <a:cubicBezTo>
                  <a:pt x="11594" y="7521"/>
                  <a:pt x="11696" y="7482"/>
                  <a:pt x="11807" y="7367"/>
                </a:cubicBezTo>
                <a:cubicBezTo>
                  <a:pt x="11897" y="7273"/>
                  <a:pt x="11993" y="7165"/>
                  <a:pt x="11956" y="7020"/>
                </a:cubicBezTo>
                <a:cubicBezTo>
                  <a:pt x="11905" y="6820"/>
                  <a:pt x="11720" y="6582"/>
                  <a:pt x="11559" y="6474"/>
                </a:cubicBezTo>
                <a:cubicBezTo>
                  <a:pt x="11396" y="6365"/>
                  <a:pt x="11222" y="6312"/>
                  <a:pt x="11038" y="6251"/>
                </a:cubicBezTo>
                <a:cubicBezTo>
                  <a:pt x="10831" y="6182"/>
                  <a:pt x="10636" y="6155"/>
                  <a:pt x="10418" y="6152"/>
                </a:cubicBezTo>
                <a:cubicBezTo>
                  <a:pt x="10144" y="6148"/>
                  <a:pt x="9885" y="6155"/>
                  <a:pt x="9624" y="6251"/>
                </a:cubicBezTo>
                <a:cubicBezTo>
                  <a:pt x="9397" y="6335"/>
                  <a:pt x="9183" y="6470"/>
                  <a:pt x="8979" y="6598"/>
                </a:cubicBezTo>
                <a:cubicBezTo>
                  <a:pt x="8814" y="6702"/>
                  <a:pt x="8648" y="6944"/>
                  <a:pt x="8607" y="7144"/>
                </a:cubicBezTo>
                <a:cubicBezTo>
                  <a:pt x="8568" y="7337"/>
                  <a:pt x="8612" y="7634"/>
                  <a:pt x="8682" y="7813"/>
                </a:cubicBezTo>
                <a:cubicBezTo>
                  <a:pt x="8746" y="7977"/>
                  <a:pt x="8900" y="8108"/>
                  <a:pt x="9079" y="8111"/>
                </a:cubicBezTo>
                <a:cubicBezTo>
                  <a:pt x="9262" y="8114"/>
                  <a:pt x="9495" y="8032"/>
                  <a:pt x="9674" y="7987"/>
                </a:cubicBezTo>
                <a:cubicBezTo>
                  <a:pt x="9699" y="7979"/>
                  <a:pt x="9723" y="7970"/>
                  <a:pt x="9748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9040" y="3963960"/>
            <a:ext cx="349200" cy="3319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1261" y="11038"/>
                </a:moveTo>
                <a:cubicBezTo>
                  <a:pt x="11103" y="11117"/>
                  <a:pt x="10994" y="11385"/>
                  <a:pt x="10939" y="11584"/>
                </a:cubicBezTo>
                <a:cubicBezTo>
                  <a:pt x="10881" y="11795"/>
                  <a:pt x="10941" y="11823"/>
                  <a:pt x="11088" y="11931"/>
                </a:cubicBezTo>
              </a:path>
              <a:path w="968" h="919">
                <a:moveTo>
                  <a:pt x="11336" y="11311"/>
                </a:moveTo>
                <a:cubicBezTo>
                  <a:pt x="11451" y="11285"/>
                  <a:pt x="11485" y="11255"/>
                  <a:pt x="11609" y="11286"/>
                </a:cubicBezTo>
                <a:cubicBezTo>
                  <a:pt x="11561" y="11452"/>
                  <a:pt x="11450" y="11590"/>
                  <a:pt x="11410" y="11757"/>
                </a:cubicBezTo>
                <a:cubicBezTo>
                  <a:pt x="11410" y="11774"/>
                  <a:pt x="11410" y="11790"/>
                  <a:pt x="11410" y="11807"/>
                </a:cubicBezTo>
              </a:path>
              <a:path w="968" h="919">
                <a:moveTo>
                  <a:pt x="11708" y="11013"/>
                </a:moveTo>
                <a:cubicBezTo>
                  <a:pt x="11894" y="11153"/>
                  <a:pt x="11924" y="11376"/>
                  <a:pt x="11832" y="11609"/>
                </a:cubicBezTo>
                <a:cubicBezTo>
                  <a:pt x="11745" y="11739"/>
                  <a:pt x="11722" y="11768"/>
                  <a:pt x="1168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95840" y="4446720"/>
            <a:ext cx="2116080" cy="509400"/>
          </a:xfrm>
          <a:custGeom>
            <a:avLst/>
            <a:gdLst/>
            <a:ahLst/>
            <a:rect l="l" t="t" r="r" b="b"/>
            <a:pathLst>
              <a:path w="5880" h="1415">
                <a:moveTo>
                  <a:pt x="10740" y="12948"/>
                </a:moveTo>
                <a:cubicBezTo>
                  <a:pt x="10857" y="12813"/>
                  <a:pt x="10933" y="12908"/>
                  <a:pt x="11063" y="12998"/>
                </a:cubicBezTo>
                <a:cubicBezTo>
                  <a:pt x="10991" y="13285"/>
                  <a:pt x="10853" y="13310"/>
                  <a:pt x="10567" y="13320"/>
                </a:cubicBezTo>
                <a:cubicBezTo>
                  <a:pt x="10603" y="13117"/>
                  <a:pt x="10795" y="13063"/>
                  <a:pt x="11013" y="13221"/>
                </a:cubicBezTo>
                <a:cubicBezTo>
                  <a:pt x="11038" y="13254"/>
                  <a:pt x="11063" y="13287"/>
                  <a:pt x="11088" y="13320"/>
                </a:cubicBezTo>
              </a:path>
              <a:path w="5880" h="1415">
                <a:moveTo>
                  <a:pt x="11435" y="12898"/>
                </a:moveTo>
                <a:cubicBezTo>
                  <a:pt x="11456" y="13024"/>
                  <a:pt x="11477" y="13148"/>
                  <a:pt x="11509" y="13271"/>
                </a:cubicBezTo>
              </a:path>
              <a:path w="5880" h="1415">
                <a:moveTo>
                  <a:pt x="11857" y="13047"/>
                </a:moveTo>
                <a:cubicBezTo>
                  <a:pt x="11956" y="13047"/>
                  <a:pt x="12006" y="13047"/>
                  <a:pt x="12080" y="13047"/>
                </a:cubicBezTo>
              </a:path>
              <a:path w="5880" h="1415">
                <a:moveTo>
                  <a:pt x="12502" y="12898"/>
                </a:moveTo>
                <a:cubicBezTo>
                  <a:pt x="12632" y="12850"/>
                  <a:pt x="12788" y="12887"/>
                  <a:pt x="12774" y="13072"/>
                </a:cubicBezTo>
                <a:cubicBezTo>
                  <a:pt x="12760" y="13257"/>
                  <a:pt x="12546" y="13231"/>
                  <a:pt x="12427" y="13246"/>
                </a:cubicBezTo>
                <a:cubicBezTo>
                  <a:pt x="12419" y="13238"/>
                  <a:pt x="12410" y="13229"/>
                  <a:pt x="12402" y="13221"/>
                </a:cubicBezTo>
                <a:cubicBezTo>
                  <a:pt x="12617" y="13141"/>
                  <a:pt x="12694" y="13129"/>
                  <a:pt x="12874" y="13271"/>
                </a:cubicBezTo>
              </a:path>
              <a:path w="5880" h="1415">
                <a:moveTo>
                  <a:pt x="13320" y="13047"/>
                </a:moveTo>
                <a:cubicBezTo>
                  <a:pt x="13436" y="13047"/>
                  <a:pt x="13551" y="13047"/>
                  <a:pt x="13667" y="13047"/>
                </a:cubicBezTo>
              </a:path>
              <a:path w="5880" h="1415">
                <a:moveTo>
                  <a:pt x="13419" y="13221"/>
                </a:moveTo>
                <a:cubicBezTo>
                  <a:pt x="13560" y="13221"/>
                  <a:pt x="13619" y="13219"/>
                  <a:pt x="13717" y="13196"/>
                </a:cubicBezTo>
              </a:path>
              <a:path w="5880" h="1415">
                <a:moveTo>
                  <a:pt x="14486" y="12898"/>
                </a:moveTo>
                <a:cubicBezTo>
                  <a:pt x="14573" y="13043"/>
                  <a:pt x="14631" y="13184"/>
                  <a:pt x="14684" y="13345"/>
                </a:cubicBezTo>
              </a:path>
              <a:path w="5880" h="1415">
                <a:moveTo>
                  <a:pt x="15379" y="12849"/>
                </a:moveTo>
                <a:cubicBezTo>
                  <a:pt x="15173" y="12826"/>
                  <a:pt x="15085" y="12822"/>
                  <a:pt x="15032" y="13022"/>
                </a:cubicBezTo>
                <a:cubicBezTo>
                  <a:pt x="15208" y="13075"/>
                  <a:pt x="15285" y="13119"/>
                  <a:pt x="15379" y="12948"/>
                </a:cubicBezTo>
                <a:cubicBezTo>
                  <a:pt x="15410" y="13135"/>
                  <a:pt x="15500" y="13304"/>
                  <a:pt x="15528" y="13494"/>
                </a:cubicBezTo>
                <a:cubicBezTo>
                  <a:pt x="15528" y="13519"/>
                  <a:pt x="15528" y="13543"/>
                  <a:pt x="15528" y="13568"/>
                </a:cubicBezTo>
              </a:path>
              <a:path w="5880" h="1415">
                <a:moveTo>
                  <a:pt x="14387" y="13692"/>
                </a:moveTo>
                <a:cubicBezTo>
                  <a:pt x="14840" y="13748"/>
                  <a:pt x="15346" y="13787"/>
                  <a:pt x="15801" y="13692"/>
                </a:cubicBezTo>
                <a:cubicBezTo>
                  <a:pt x="16130" y="13623"/>
                  <a:pt x="16597" y="13313"/>
                  <a:pt x="16346" y="12923"/>
                </a:cubicBezTo>
                <a:cubicBezTo>
                  <a:pt x="16112" y="12558"/>
                  <a:pt x="15468" y="12353"/>
                  <a:pt x="15056" y="12353"/>
                </a:cubicBezTo>
                <a:cubicBezTo>
                  <a:pt x="14658" y="12353"/>
                  <a:pt x="14276" y="12612"/>
                  <a:pt x="14213" y="13022"/>
                </a:cubicBezTo>
                <a:cubicBezTo>
                  <a:pt x="14149" y="13439"/>
                  <a:pt x="14513" y="13572"/>
                  <a:pt x="14784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(1+5) when x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algebraic expression for the total of 15 and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9240" y="1633680"/>
            <a:ext cx="26856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8210" y="4862"/>
                </a:moveTo>
                <a:lnTo>
                  <a:pt x="8210" y="4862"/>
                </a:lnTo>
              </a:path>
              <a:path w="745" h="894">
                <a:moveTo>
                  <a:pt x="8260" y="4862"/>
                </a:moveTo>
                <a:cubicBezTo>
                  <a:pt x="8280" y="4834"/>
                  <a:pt x="8396" y="4758"/>
                  <a:pt x="8434" y="4837"/>
                </a:cubicBezTo>
                <a:cubicBezTo>
                  <a:pt x="8509" y="4995"/>
                  <a:pt x="8366" y="5091"/>
                  <a:pt x="8235" y="5135"/>
                </a:cubicBezTo>
                <a:cubicBezTo>
                  <a:pt x="8252" y="5127"/>
                  <a:pt x="8268" y="5118"/>
                  <a:pt x="8285" y="5110"/>
                </a:cubicBezTo>
                <a:cubicBezTo>
                  <a:pt x="8388" y="5119"/>
                  <a:pt x="8702" y="5132"/>
                  <a:pt x="8582" y="5333"/>
                </a:cubicBezTo>
                <a:cubicBezTo>
                  <a:pt x="8500" y="5470"/>
                  <a:pt x="8256" y="5441"/>
                  <a:pt x="8136" y="5407"/>
                </a:cubicBezTo>
                <a:cubicBezTo>
                  <a:pt x="8128" y="5399"/>
                  <a:pt x="8119" y="5391"/>
                  <a:pt x="8111" y="5383"/>
                </a:cubicBezTo>
              </a:path>
              <a:path w="745" h="894">
                <a:moveTo>
                  <a:pt x="8706" y="4564"/>
                </a:moveTo>
                <a:cubicBezTo>
                  <a:pt x="8739" y="4556"/>
                  <a:pt x="8773" y="4547"/>
                  <a:pt x="8806" y="4539"/>
                </a:cubicBezTo>
                <a:cubicBezTo>
                  <a:pt x="8841" y="4684"/>
                  <a:pt x="8814" y="4677"/>
                  <a:pt x="8731" y="4787"/>
                </a:cubicBezTo>
                <a:cubicBezTo>
                  <a:pt x="8811" y="4802"/>
                  <a:pt x="8953" y="4883"/>
                  <a:pt x="8830" y="4986"/>
                </a:cubicBezTo>
                <a:cubicBezTo>
                  <a:pt x="8763" y="5009"/>
                  <a:pt x="8745" y="5020"/>
                  <a:pt x="8706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1000" y="183996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227" y="5110"/>
                </a:moveTo>
                <a:cubicBezTo>
                  <a:pt x="9320" y="5110"/>
                  <a:pt x="9390" y="5109"/>
                  <a:pt x="9475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4280" y="1633680"/>
            <a:ext cx="704880" cy="501480"/>
          </a:xfrm>
          <a:custGeom>
            <a:avLst/>
            <a:gdLst/>
            <a:ahLst/>
            <a:rect l="l" t="t" r="r" b="b"/>
            <a:pathLst>
              <a:path w="1961" h="1390">
                <a:moveTo>
                  <a:pt x="10145" y="4688"/>
                </a:moveTo>
                <a:cubicBezTo>
                  <a:pt x="10012" y="4821"/>
                  <a:pt x="9811" y="5041"/>
                  <a:pt x="9872" y="5259"/>
                </a:cubicBezTo>
                <a:cubicBezTo>
                  <a:pt x="9900" y="5358"/>
                  <a:pt x="9993" y="5397"/>
                  <a:pt x="10071" y="5432"/>
                </a:cubicBezTo>
              </a:path>
              <a:path w="1961" h="1390">
                <a:moveTo>
                  <a:pt x="10393" y="4887"/>
                </a:moveTo>
                <a:cubicBezTo>
                  <a:pt x="10372" y="5027"/>
                  <a:pt x="10373" y="5121"/>
                  <a:pt x="10393" y="5259"/>
                </a:cubicBezTo>
              </a:path>
              <a:path w="1961" h="1390">
                <a:moveTo>
                  <a:pt x="10740" y="4986"/>
                </a:moveTo>
                <a:cubicBezTo>
                  <a:pt x="10714" y="5075"/>
                  <a:pt x="10720" y="5118"/>
                  <a:pt x="10740" y="5209"/>
                </a:cubicBezTo>
              </a:path>
              <a:path w="1961" h="1390">
                <a:moveTo>
                  <a:pt x="10666" y="5060"/>
                </a:moveTo>
                <a:cubicBezTo>
                  <a:pt x="10775" y="5068"/>
                  <a:pt x="10879" y="5079"/>
                  <a:pt x="10988" y="5085"/>
                </a:cubicBezTo>
              </a:path>
              <a:path w="1961" h="1390">
                <a:moveTo>
                  <a:pt x="11534" y="4812"/>
                </a:moveTo>
                <a:cubicBezTo>
                  <a:pt x="11459" y="4812"/>
                  <a:pt x="11304" y="4776"/>
                  <a:pt x="11261" y="4862"/>
                </a:cubicBezTo>
                <a:cubicBezTo>
                  <a:pt x="11242" y="4939"/>
                  <a:pt x="11250" y="4957"/>
                  <a:pt x="11212" y="4986"/>
                </a:cubicBezTo>
                <a:cubicBezTo>
                  <a:pt x="11308" y="4986"/>
                  <a:pt x="11438" y="4952"/>
                  <a:pt x="11509" y="5035"/>
                </a:cubicBezTo>
                <a:cubicBezTo>
                  <a:pt x="11628" y="5174"/>
                  <a:pt x="11422" y="5228"/>
                  <a:pt x="11336" y="5234"/>
                </a:cubicBezTo>
                <a:cubicBezTo>
                  <a:pt x="11311" y="5234"/>
                  <a:pt x="11286" y="5234"/>
                  <a:pt x="11261" y="5234"/>
                </a:cubicBezTo>
              </a:path>
              <a:path w="1961" h="1390">
                <a:moveTo>
                  <a:pt x="11658" y="4539"/>
                </a:moveTo>
                <a:cubicBezTo>
                  <a:pt x="11777" y="4701"/>
                  <a:pt x="11836" y="4899"/>
                  <a:pt x="11832" y="5110"/>
                </a:cubicBezTo>
                <a:cubicBezTo>
                  <a:pt x="11829" y="5268"/>
                  <a:pt x="11765" y="5380"/>
                  <a:pt x="11633" y="5457"/>
                </a:cubicBezTo>
                <a:cubicBezTo>
                  <a:pt x="11617" y="5465"/>
                  <a:pt x="11600" y="5474"/>
                  <a:pt x="11584" y="5482"/>
                </a:cubicBezTo>
              </a:path>
              <a:path w="1961" h="1390">
                <a:moveTo>
                  <a:pt x="10691" y="5482"/>
                </a:moveTo>
                <a:cubicBezTo>
                  <a:pt x="10679" y="5585"/>
                  <a:pt x="10641" y="5673"/>
                  <a:pt x="10641" y="5779"/>
                </a:cubicBezTo>
                <a:cubicBezTo>
                  <a:pt x="10641" y="5851"/>
                  <a:pt x="10654" y="5910"/>
                  <a:pt x="10740" y="5928"/>
                </a:cubicBezTo>
                <a:cubicBezTo>
                  <a:pt x="10819" y="5945"/>
                  <a:pt x="10908" y="5907"/>
                  <a:pt x="10964" y="5854"/>
                </a:cubicBezTo>
                <a:cubicBezTo>
                  <a:pt x="11025" y="5796"/>
                  <a:pt x="11035" y="5772"/>
                  <a:pt x="11013" y="5705"/>
                </a:cubicBezTo>
                <a:cubicBezTo>
                  <a:pt x="10955" y="5685"/>
                  <a:pt x="10885" y="5699"/>
                  <a:pt x="10864" y="5779"/>
                </a:cubicBezTo>
                <a:cubicBezTo>
                  <a:pt x="10853" y="5820"/>
                  <a:pt x="10864" y="5886"/>
                  <a:pt x="10864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63880" y="2035080"/>
            <a:ext cx="100080" cy="1717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8235" y="5680"/>
                </a:moveTo>
                <a:cubicBezTo>
                  <a:pt x="8321" y="5671"/>
                  <a:pt x="8458" y="5609"/>
                  <a:pt x="8458" y="5755"/>
                </a:cubicBezTo>
                <a:cubicBezTo>
                  <a:pt x="8435" y="5850"/>
                  <a:pt x="8429" y="5879"/>
                  <a:pt x="8384" y="5928"/>
                </a:cubicBezTo>
                <a:cubicBezTo>
                  <a:pt x="8460" y="5866"/>
                  <a:pt x="8527" y="5905"/>
                  <a:pt x="8508" y="6028"/>
                </a:cubicBezTo>
                <a:cubicBezTo>
                  <a:pt x="8478" y="6218"/>
                  <a:pt x="8340" y="6101"/>
                  <a:pt x="8285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1973160"/>
            <a:ext cx="4464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8731" y="5507"/>
                </a:moveTo>
                <a:cubicBezTo>
                  <a:pt x="8748" y="5499"/>
                  <a:pt x="8764" y="5490"/>
                  <a:pt x="8781" y="5482"/>
                </a:cubicBezTo>
                <a:cubicBezTo>
                  <a:pt x="8764" y="5614"/>
                  <a:pt x="8763" y="5528"/>
                  <a:pt x="8830" y="5606"/>
                </a:cubicBezTo>
                <a:cubicBezTo>
                  <a:pt x="8876" y="5660"/>
                  <a:pt x="8839" y="5672"/>
                  <a:pt x="8806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0720" y="209880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252" y="5829"/>
                </a:moveTo>
                <a:cubicBezTo>
                  <a:pt x="9338" y="5849"/>
                  <a:pt x="9412" y="5854"/>
                  <a:pt x="9500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4000" y="186696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5652" y="5259"/>
                </a:moveTo>
                <a:cubicBezTo>
                  <a:pt x="15711" y="5212"/>
                  <a:pt x="15867" y="5098"/>
                  <a:pt x="15875" y="5259"/>
                </a:cubicBezTo>
                <a:cubicBezTo>
                  <a:pt x="15878" y="5320"/>
                  <a:pt x="15790" y="5358"/>
                  <a:pt x="15751" y="5383"/>
                </a:cubicBezTo>
                <a:cubicBezTo>
                  <a:pt x="15826" y="5389"/>
                  <a:pt x="16084" y="5386"/>
                  <a:pt x="15974" y="5531"/>
                </a:cubicBezTo>
                <a:cubicBezTo>
                  <a:pt x="15899" y="5630"/>
                  <a:pt x="15772" y="5573"/>
                  <a:pt x="15677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75200" y="1830240"/>
            <a:ext cx="304920" cy="13500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16321" y="5159"/>
                </a:moveTo>
                <a:cubicBezTo>
                  <a:pt x="16403" y="5260"/>
                  <a:pt x="16487" y="5356"/>
                  <a:pt x="16570" y="5457"/>
                </a:cubicBezTo>
              </a:path>
              <a:path w="845" h="373">
                <a:moveTo>
                  <a:pt x="16669" y="5085"/>
                </a:moveTo>
                <a:cubicBezTo>
                  <a:pt x="16575" y="5168"/>
                  <a:pt x="16518" y="5295"/>
                  <a:pt x="16446" y="5407"/>
                </a:cubicBezTo>
              </a:path>
              <a:path w="845" h="373">
                <a:moveTo>
                  <a:pt x="16917" y="5110"/>
                </a:moveTo>
                <a:cubicBezTo>
                  <a:pt x="17006" y="5116"/>
                  <a:pt x="17224" y="5095"/>
                  <a:pt x="17115" y="5259"/>
                </a:cubicBezTo>
                <a:cubicBezTo>
                  <a:pt x="17066" y="5283"/>
                  <a:pt x="17049" y="5291"/>
                  <a:pt x="17016" y="5308"/>
                </a:cubicBezTo>
                <a:cubicBezTo>
                  <a:pt x="17048" y="5308"/>
                  <a:pt x="17243" y="5308"/>
                  <a:pt x="17165" y="5407"/>
                </a:cubicBezTo>
                <a:cubicBezTo>
                  <a:pt x="17101" y="5489"/>
                  <a:pt x="16980" y="5457"/>
                  <a:pt x="16892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13320" y="1812960"/>
            <a:ext cx="12564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7537" y="5060"/>
                </a:moveTo>
                <a:cubicBezTo>
                  <a:pt x="17643" y="5153"/>
                  <a:pt x="17753" y="5249"/>
                  <a:pt x="17835" y="5358"/>
                </a:cubicBezTo>
              </a:path>
              <a:path w="348" h="349">
                <a:moveTo>
                  <a:pt x="17884" y="5035"/>
                </a:moveTo>
                <a:cubicBezTo>
                  <a:pt x="17788" y="5148"/>
                  <a:pt x="17711" y="5272"/>
                  <a:pt x="17611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5160" y="1803240"/>
            <a:ext cx="135000" cy="14292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18182" y="5011"/>
                </a:moveTo>
                <a:cubicBezTo>
                  <a:pt x="18269" y="5011"/>
                  <a:pt x="18360" y="4971"/>
                  <a:pt x="18405" y="5060"/>
                </a:cubicBezTo>
                <a:cubicBezTo>
                  <a:pt x="18440" y="5130"/>
                  <a:pt x="18369" y="5176"/>
                  <a:pt x="18331" y="5209"/>
                </a:cubicBezTo>
                <a:cubicBezTo>
                  <a:pt x="18444" y="5191"/>
                  <a:pt x="18460" y="5193"/>
                  <a:pt x="18554" y="5259"/>
                </a:cubicBezTo>
                <a:cubicBezTo>
                  <a:pt x="18474" y="5417"/>
                  <a:pt x="18431" y="5407"/>
                  <a:pt x="18256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30920" y="1857240"/>
            <a:ext cx="2857320" cy="563760"/>
          </a:xfrm>
          <a:custGeom>
            <a:avLst/>
            <a:gdLst/>
            <a:ahLst/>
            <a:rect l="l" t="t" r="r" b="b"/>
            <a:pathLst>
              <a:path w="7939" h="1564">
                <a:moveTo>
                  <a:pt x="16197" y="5581"/>
                </a:moveTo>
                <a:cubicBezTo>
                  <a:pt x="16197" y="5639"/>
                  <a:pt x="16197" y="5697"/>
                  <a:pt x="16197" y="5755"/>
                </a:cubicBezTo>
                <a:cubicBezTo>
                  <a:pt x="16385" y="5755"/>
                  <a:pt x="16583" y="5709"/>
                  <a:pt x="16768" y="5730"/>
                </a:cubicBezTo>
                <a:cubicBezTo>
                  <a:pt x="16875" y="5742"/>
                  <a:pt x="16818" y="5656"/>
                  <a:pt x="16818" y="5556"/>
                </a:cubicBezTo>
              </a:path>
              <a:path w="7939" h="1564">
                <a:moveTo>
                  <a:pt x="16619" y="6102"/>
                </a:moveTo>
                <a:cubicBezTo>
                  <a:pt x="16596" y="5973"/>
                  <a:pt x="16575" y="5848"/>
                  <a:pt x="16446" y="6003"/>
                </a:cubicBezTo>
                <a:cubicBezTo>
                  <a:pt x="16402" y="6068"/>
                  <a:pt x="16376" y="6087"/>
                  <a:pt x="16446" y="6102"/>
                </a:cubicBezTo>
                <a:cubicBezTo>
                  <a:pt x="16509" y="6088"/>
                  <a:pt x="16541" y="6072"/>
                  <a:pt x="16594" y="6028"/>
                </a:cubicBezTo>
                <a:cubicBezTo>
                  <a:pt x="16630" y="6143"/>
                  <a:pt x="16631" y="6157"/>
                  <a:pt x="16619" y="6276"/>
                </a:cubicBezTo>
              </a:path>
              <a:path w="7939" h="1564">
                <a:moveTo>
                  <a:pt x="16818" y="6400"/>
                </a:moveTo>
                <a:cubicBezTo>
                  <a:pt x="16980" y="6359"/>
                  <a:pt x="17167" y="6352"/>
                  <a:pt x="17338" y="6325"/>
                </a:cubicBezTo>
                <a:cubicBezTo>
                  <a:pt x="17466" y="6305"/>
                  <a:pt x="17582" y="6300"/>
                  <a:pt x="17711" y="6300"/>
                </a:cubicBezTo>
                <a:cubicBezTo>
                  <a:pt x="17727" y="6300"/>
                  <a:pt x="17744" y="6300"/>
                  <a:pt x="17760" y="6300"/>
                </a:cubicBezTo>
                <a:cubicBezTo>
                  <a:pt x="17785" y="6101"/>
                  <a:pt x="17829" y="5910"/>
                  <a:pt x="17835" y="5705"/>
                </a:cubicBezTo>
                <a:cubicBezTo>
                  <a:pt x="17835" y="5688"/>
                  <a:pt x="17835" y="5672"/>
                  <a:pt x="17835" y="5655"/>
                </a:cubicBezTo>
              </a:path>
              <a:path w="7939" h="1564">
                <a:moveTo>
                  <a:pt x="17983" y="6474"/>
                </a:moveTo>
                <a:cubicBezTo>
                  <a:pt x="18064" y="6439"/>
                  <a:pt x="18196" y="6430"/>
                  <a:pt x="18231" y="6548"/>
                </a:cubicBezTo>
                <a:cubicBezTo>
                  <a:pt x="18277" y="6701"/>
                  <a:pt x="18055" y="6711"/>
                  <a:pt x="17959" y="6697"/>
                </a:cubicBezTo>
                <a:cubicBezTo>
                  <a:pt x="17942" y="6689"/>
                  <a:pt x="17926" y="6680"/>
                  <a:pt x="17909" y="6672"/>
                </a:cubicBezTo>
                <a:cubicBezTo>
                  <a:pt x="18026" y="6582"/>
                  <a:pt x="18075" y="6586"/>
                  <a:pt x="18207" y="6648"/>
                </a:cubicBezTo>
                <a:cubicBezTo>
                  <a:pt x="18223" y="6656"/>
                  <a:pt x="18240" y="6664"/>
                  <a:pt x="18256" y="6672"/>
                </a:cubicBezTo>
              </a:path>
              <a:path w="7939" h="1564">
                <a:moveTo>
                  <a:pt x="18455" y="6325"/>
                </a:moveTo>
                <a:cubicBezTo>
                  <a:pt x="18592" y="6301"/>
                  <a:pt x="18749" y="6229"/>
                  <a:pt x="18777" y="6400"/>
                </a:cubicBezTo>
                <a:cubicBezTo>
                  <a:pt x="18794" y="6506"/>
                  <a:pt x="18760" y="6617"/>
                  <a:pt x="18752" y="6722"/>
                </a:cubicBezTo>
              </a:path>
              <a:path w="7939" h="1564">
                <a:moveTo>
                  <a:pt x="19422" y="6524"/>
                </a:moveTo>
                <a:cubicBezTo>
                  <a:pt x="19507" y="6481"/>
                  <a:pt x="19618" y="6499"/>
                  <a:pt x="19720" y="6499"/>
                </a:cubicBezTo>
              </a:path>
              <a:path w="7939" h="1564">
                <a:moveTo>
                  <a:pt x="20290" y="6127"/>
                </a:moveTo>
                <a:cubicBezTo>
                  <a:pt x="20225" y="6212"/>
                  <a:pt x="20126" y="6350"/>
                  <a:pt x="20166" y="6474"/>
                </a:cubicBezTo>
                <a:cubicBezTo>
                  <a:pt x="20207" y="6601"/>
                  <a:pt x="20440" y="6564"/>
                  <a:pt x="20538" y="6524"/>
                </a:cubicBezTo>
                <a:cubicBezTo>
                  <a:pt x="20611" y="6495"/>
                  <a:pt x="20628" y="6460"/>
                  <a:pt x="20662" y="6400"/>
                </a:cubicBezTo>
                <a:cubicBezTo>
                  <a:pt x="20565" y="6322"/>
                  <a:pt x="20478" y="6311"/>
                  <a:pt x="20439" y="6474"/>
                </a:cubicBezTo>
                <a:cubicBezTo>
                  <a:pt x="20439" y="6491"/>
                  <a:pt x="20439" y="6507"/>
                  <a:pt x="20439" y="6524"/>
                </a:cubicBezTo>
              </a:path>
              <a:path w="7939" h="1564">
                <a:moveTo>
                  <a:pt x="21431" y="6077"/>
                </a:moveTo>
                <a:cubicBezTo>
                  <a:pt x="21539" y="6077"/>
                  <a:pt x="21646" y="6077"/>
                  <a:pt x="21754" y="6077"/>
                </a:cubicBezTo>
              </a:path>
              <a:path w="7939" h="1564">
                <a:moveTo>
                  <a:pt x="21481" y="6251"/>
                </a:moveTo>
                <a:cubicBezTo>
                  <a:pt x="21593" y="6234"/>
                  <a:pt x="21690" y="6226"/>
                  <a:pt x="21803" y="6226"/>
                </a:cubicBezTo>
              </a:path>
              <a:path w="7939" h="1564">
                <a:moveTo>
                  <a:pt x="22448" y="5879"/>
                </a:moveTo>
                <a:cubicBezTo>
                  <a:pt x="22599" y="5861"/>
                  <a:pt x="22802" y="5878"/>
                  <a:pt x="22796" y="6102"/>
                </a:cubicBezTo>
                <a:cubicBezTo>
                  <a:pt x="22792" y="6265"/>
                  <a:pt x="22505" y="6298"/>
                  <a:pt x="22399" y="6251"/>
                </a:cubicBezTo>
                <a:cubicBezTo>
                  <a:pt x="22391" y="6234"/>
                  <a:pt x="22382" y="6218"/>
                  <a:pt x="22374" y="6201"/>
                </a:cubicBezTo>
                <a:cubicBezTo>
                  <a:pt x="22468" y="6071"/>
                  <a:pt x="22541" y="6138"/>
                  <a:pt x="22671" y="6201"/>
                </a:cubicBezTo>
                <a:cubicBezTo>
                  <a:pt x="22753" y="6241"/>
                  <a:pt x="22792" y="6281"/>
                  <a:pt x="22870" y="6300"/>
                </a:cubicBezTo>
              </a:path>
              <a:path w="7939" h="1564">
                <a:moveTo>
                  <a:pt x="23168" y="5779"/>
                </a:moveTo>
                <a:cubicBezTo>
                  <a:pt x="23226" y="5900"/>
                  <a:pt x="23235" y="6060"/>
                  <a:pt x="23242" y="6201"/>
                </a:cubicBezTo>
                <a:cubicBezTo>
                  <a:pt x="23242" y="6267"/>
                  <a:pt x="23242" y="6284"/>
                  <a:pt x="23242" y="6325"/>
                </a:cubicBezTo>
              </a:path>
              <a:path w="7939" h="1564">
                <a:moveTo>
                  <a:pt x="22523" y="6573"/>
                </a:moveTo>
                <a:cubicBezTo>
                  <a:pt x="22699" y="6618"/>
                  <a:pt x="22881" y="6662"/>
                  <a:pt x="23068" y="6672"/>
                </a:cubicBezTo>
                <a:cubicBezTo>
                  <a:pt x="23395" y="6690"/>
                  <a:pt x="23609" y="6608"/>
                  <a:pt x="23862" y="6400"/>
                </a:cubicBezTo>
                <a:cubicBezTo>
                  <a:pt x="24021" y="6269"/>
                  <a:pt x="24135" y="6065"/>
                  <a:pt x="24135" y="5854"/>
                </a:cubicBezTo>
                <a:cubicBezTo>
                  <a:pt x="24135" y="5620"/>
                  <a:pt x="24051" y="5413"/>
                  <a:pt x="23837" y="5308"/>
                </a:cubicBezTo>
                <a:cubicBezTo>
                  <a:pt x="23542" y="5163"/>
                  <a:pt x="23258" y="5165"/>
                  <a:pt x="22944" y="5184"/>
                </a:cubicBezTo>
                <a:cubicBezTo>
                  <a:pt x="22777" y="5194"/>
                  <a:pt x="22594" y="5211"/>
                  <a:pt x="22448" y="5308"/>
                </a:cubicBezTo>
                <a:cubicBezTo>
                  <a:pt x="22261" y="5432"/>
                  <a:pt x="22262" y="5707"/>
                  <a:pt x="22250" y="5904"/>
                </a:cubicBezTo>
                <a:cubicBezTo>
                  <a:pt x="22241" y="6054"/>
                  <a:pt x="22249" y="6336"/>
                  <a:pt x="22324" y="6474"/>
                </a:cubicBezTo>
                <a:cubicBezTo>
                  <a:pt x="22369" y="6556"/>
                  <a:pt x="22493" y="6628"/>
                  <a:pt x="22572" y="6648"/>
                </a:cubicBezTo>
                <a:cubicBezTo>
                  <a:pt x="22597" y="6648"/>
                  <a:pt x="22622" y="6648"/>
                  <a:pt x="22647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3357720"/>
            <a:ext cx="588960" cy="277560"/>
          </a:xfrm>
          <a:custGeom>
            <a:avLst/>
            <a:gdLst/>
            <a:ahLst/>
            <a:rect l="l" t="t" r="r" b="b"/>
            <a:pathLst>
              <a:path w="1638" h="770">
                <a:moveTo>
                  <a:pt x="9500" y="9351"/>
                </a:moveTo>
                <a:cubicBezTo>
                  <a:pt x="9481" y="9564"/>
                  <a:pt x="9461" y="9784"/>
                  <a:pt x="9426" y="9996"/>
                </a:cubicBezTo>
                <a:cubicBezTo>
                  <a:pt x="9418" y="10029"/>
                  <a:pt x="9409" y="10063"/>
                  <a:pt x="9401" y="10096"/>
                </a:cubicBezTo>
              </a:path>
              <a:path w="1638" h="770">
                <a:moveTo>
                  <a:pt x="10195" y="9327"/>
                </a:moveTo>
                <a:cubicBezTo>
                  <a:pt x="10104" y="9366"/>
                  <a:pt x="9988" y="9302"/>
                  <a:pt x="9922" y="9376"/>
                </a:cubicBezTo>
                <a:cubicBezTo>
                  <a:pt x="9878" y="9424"/>
                  <a:pt x="9840" y="9540"/>
                  <a:pt x="9823" y="9599"/>
                </a:cubicBezTo>
                <a:cubicBezTo>
                  <a:pt x="9979" y="9585"/>
                  <a:pt x="10217" y="9538"/>
                  <a:pt x="10344" y="9674"/>
                </a:cubicBezTo>
                <a:cubicBezTo>
                  <a:pt x="10560" y="9904"/>
                  <a:pt x="10064" y="10046"/>
                  <a:pt x="9922" y="9996"/>
                </a:cubicBezTo>
                <a:cubicBezTo>
                  <a:pt x="9889" y="9963"/>
                  <a:pt x="9856" y="9930"/>
                  <a:pt x="9823" y="9897"/>
                </a:cubicBezTo>
              </a:path>
              <a:path w="1638" h="770">
                <a:moveTo>
                  <a:pt x="10790" y="9426"/>
                </a:moveTo>
                <a:cubicBezTo>
                  <a:pt x="10790" y="9586"/>
                  <a:pt x="10801" y="9739"/>
                  <a:pt x="10815" y="9897"/>
                </a:cubicBezTo>
              </a:path>
              <a:path w="1638" h="770">
                <a:moveTo>
                  <a:pt x="10691" y="9599"/>
                </a:moveTo>
                <a:cubicBezTo>
                  <a:pt x="10865" y="9599"/>
                  <a:pt x="10924" y="9599"/>
                  <a:pt x="11038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3880" y="3303720"/>
            <a:ext cx="125280" cy="2602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1485" y="9401"/>
                </a:moveTo>
                <a:cubicBezTo>
                  <a:pt x="11524" y="9578"/>
                  <a:pt x="11625" y="9720"/>
                  <a:pt x="11757" y="9847"/>
                </a:cubicBezTo>
                <a:cubicBezTo>
                  <a:pt x="11782" y="9864"/>
                  <a:pt x="11807" y="9880"/>
                  <a:pt x="11832" y="9897"/>
                </a:cubicBezTo>
              </a:path>
              <a:path w="348" h="720">
                <a:moveTo>
                  <a:pt x="11807" y="9178"/>
                </a:moveTo>
                <a:cubicBezTo>
                  <a:pt x="11712" y="9426"/>
                  <a:pt x="11635" y="9684"/>
                  <a:pt x="1148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1447920"/>
          <a:ext cx="2743200" cy="234288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048120" y="1295280"/>
            <a:ext cx="46479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rule of the function 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3440" y="442440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 – 12 x 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37080" y="35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9996"/>
                </a:moveTo>
                <a:lnTo>
                  <a:pt x="12601" y="99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6080" y="4946760"/>
            <a:ext cx="2563920" cy="1036440"/>
          </a:xfrm>
          <a:custGeom>
            <a:avLst/>
            <a:gdLst/>
            <a:ahLst/>
            <a:rect l="l" t="t" r="r" b="b"/>
            <a:pathLst>
              <a:path w="7120" h="2878">
                <a:moveTo>
                  <a:pt x="12601" y="13866"/>
                </a:moveTo>
                <a:cubicBezTo>
                  <a:pt x="12626" y="13922"/>
                  <a:pt x="12628" y="13933"/>
                  <a:pt x="12650" y="13990"/>
                </a:cubicBezTo>
                <a:cubicBezTo>
                  <a:pt x="12846" y="13960"/>
                  <a:pt x="13047" y="13889"/>
                  <a:pt x="13246" y="13866"/>
                </a:cubicBezTo>
                <a:cubicBezTo>
                  <a:pt x="13444" y="13844"/>
                  <a:pt x="13670" y="13872"/>
                  <a:pt x="13866" y="13891"/>
                </a:cubicBezTo>
                <a:cubicBezTo>
                  <a:pt x="14073" y="13911"/>
                  <a:pt x="14279" y="13934"/>
                  <a:pt x="14486" y="13940"/>
                </a:cubicBezTo>
                <a:cubicBezTo>
                  <a:pt x="14548" y="13942"/>
                  <a:pt x="14577" y="13962"/>
                  <a:pt x="14635" y="13965"/>
                </a:cubicBezTo>
                <a:cubicBezTo>
                  <a:pt x="14750" y="13972"/>
                  <a:pt x="14660" y="13804"/>
                  <a:pt x="14635" y="13742"/>
                </a:cubicBezTo>
              </a:path>
              <a:path w="7120" h="2878">
                <a:moveTo>
                  <a:pt x="13419" y="14114"/>
                </a:moveTo>
                <a:cubicBezTo>
                  <a:pt x="13551" y="14085"/>
                  <a:pt x="13662" y="14177"/>
                  <a:pt x="13618" y="14337"/>
                </a:cubicBezTo>
                <a:cubicBezTo>
                  <a:pt x="13575" y="14492"/>
                  <a:pt x="13497" y="14474"/>
                  <a:pt x="13370" y="14486"/>
                </a:cubicBezTo>
                <a:cubicBezTo>
                  <a:pt x="13473" y="14361"/>
                  <a:pt x="13588" y="14314"/>
                  <a:pt x="13742" y="14412"/>
                </a:cubicBezTo>
                <a:cubicBezTo>
                  <a:pt x="13750" y="14420"/>
                  <a:pt x="13759" y="14428"/>
                  <a:pt x="13767" y="14436"/>
                </a:cubicBezTo>
              </a:path>
              <a:path w="7120" h="2878">
                <a:moveTo>
                  <a:pt x="13940" y="14114"/>
                </a:moveTo>
                <a:cubicBezTo>
                  <a:pt x="13957" y="14241"/>
                  <a:pt x="14102" y="14436"/>
                  <a:pt x="14213" y="14213"/>
                </a:cubicBezTo>
                <a:cubicBezTo>
                  <a:pt x="14213" y="14172"/>
                  <a:pt x="14213" y="14130"/>
                  <a:pt x="14213" y="14089"/>
                </a:cubicBezTo>
                <a:cubicBezTo>
                  <a:pt x="14092" y="13970"/>
                  <a:pt x="14173" y="14359"/>
                  <a:pt x="14188" y="14486"/>
                </a:cubicBezTo>
              </a:path>
              <a:path w="7120" h="2878">
                <a:moveTo>
                  <a:pt x="9227" y="14387"/>
                </a:moveTo>
                <a:cubicBezTo>
                  <a:pt x="9329" y="14387"/>
                  <a:pt x="9491" y="14375"/>
                  <a:pt x="9550" y="14486"/>
                </a:cubicBezTo>
                <a:cubicBezTo>
                  <a:pt x="9550" y="14519"/>
                  <a:pt x="9550" y="14552"/>
                  <a:pt x="9550" y="14585"/>
                </a:cubicBezTo>
                <a:cubicBezTo>
                  <a:pt x="9392" y="14709"/>
                  <a:pt x="9316" y="14734"/>
                  <a:pt x="9128" y="14660"/>
                </a:cubicBezTo>
                <a:cubicBezTo>
                  <a:pt x="9279" y="14572"/>
                  <a:pt x="9349" y="14577"/>
                  <a:pt x="9500" y="14660"/>
                </a:cubicBezTo>
              </a:path>
              <a:path w="7120" h="2878">
                <a:moveTo>
                  <a:pt x="9823" y="14312"/>
                </a:moveTo>
                <a:cubicBezTo>
                  <a:pt x="9830" y="14412"/>
                  <a:pt x="9836" y="14569"/>
                  <a:pt x="9996" y="14536"/>
                </a:cubicBezTo>
                <a:cubicBezTo>
                  <a:pt x="10124" y="14509"/>
                  <a:pt x="10091" y="14355"/>
                  <a:pt x="10096" y="14263"/>
                </a:cubicBezTo>
                <a:cubicBezTo>
                  <a:pt x="10035" y="14400"/>
                  <a:pt x="10062" y="14512"/>
                  <a:pt x="10071" y="14660"/>
                </a:cubicBezTo>
              </a:path>
              <a:path w="7120" h="2878">
                <a:moveTo>
                  <a:pt x="10864" y="14560"/>
                </a:moveTo>
                <a:cubicBezTo>
                  <a:pt x="10979" y="14583"/>
                  <a:pt x="11012" y="14592"/>
                  <a:pt x="11088" y="14585"/>
                </a:cubicBezTo>
              </a:path>
              <a:path w="7120" h="2878">
                <a:moveTo>
                  <a:pt x="15503" y="14114"/>
                </a:moveTo>
                <a:cubicBezTo>
                  <a:pt x="15541" y="14228"/>
                  <a:pt x="15514" y="14336"/>
                  <a:pt x="15503" y="14461"/>
                </a:cubicBezTo>
              </a:path>
              <a:path w="7120" h="2878">
                <a:moveTo>
                  <a:pt x="15429" y="14312"/>
                </a:moveTo>
                <a:cubicBezTo>
                  <a:pt x="15486" y="14312"/>
                  <a:pt x="15528" y="14312"/>
                  <a:pt x="15577" y="14312"/>
                </a:cubicBezTo>
              </a:path>
              <a:path w="7120" h="2878">
                <a:moveTo>
                  <a:pt x="15974" y="14114"/>
                </a:moveTo>
                <a:cubicBezTo>
                  <a:pt x="16072" y="14139"/>
                  <a:pt x="16105" y="14147"/>
                  <a:pt x="16173" y="14139"/>
                </a:cubicBezTo>
                <a:cubicBezTo>
                  <a:pt x="16123" y="14204"/>
                  <a:pt x="15988" y="14247"/>
                  <a:pt x="16073" y="14288"/>
                </a:cubicBezTo>
                <a:cubicBezTo>
                  <a:pt x="16253" y="14375"/>
                  <a:pt x="16303" y="14461"/>
                  <a:pt x="16098" y="14560"/>
                </a:cubicBezTo>
                <a:cubicBezTo>
                  <a:pt x="16073" y="14568"/>
                  <a:pt x="16049" y="14577"/>
                  <a:pt x="16024" y="14585"/>
                </a:cubicBezTo>
              </a:path>
              <a:path w="7120" h="2878">
                <a:moveTo>
                  <a:pt x="10765" y="14734"/>
                </a:moveTo>
                <a:cubicBezTo>
                  <a:pt x="10785" y="14833"/>
                  <a:pt x="10793" y="14849"/>
                  <a:pt x="10790" y="14908"/>
                </a:cubicBezTo>
                <a:cubicBezTo>
                  <a:pt x="11098" y="14854"/>
                  <a:pt x="11395" y="14836"/>
                  <a:pt x="11708" y="14833"/>
                </a:cubicBezTo>
                <a:cubicBezTo>
                  <a:pt x="12098" y="14830"/>
                  <a:pt x="12486" y="14804"/>
                  <a:pt x="12874" y="14784"/>
                </a:cubicBezTo>
                <a:cubicBezTo>
                  <a:pt x="12901" y="14783"/>
                  <a:pt x="13154" y="14822"/>
                  <a:pt x="13171" y="14808"/>
                </a:cubicBezTo>
                <a:cubicBezTo>
                  <a:pt x="13203" y="14782"/>
                  <a:pt x="13180" y="14757"/>
                  <a:pt x="13196" y="14709"/>
                </a:cubicBezTo>
              </a:path>
              <a:path w="7120" h="2878">
                <a:moveTo>
                  <a:pt x="12551" y="15180"/>
                </a:moveTo>
                <a:cubicBezTo>
                  <a:pt x="12373" y="15236"/>
                  <a:pt x="12331" y="15355"/>
                  <a:pt x="12254" y="15528"/>
                </a:cubicBezTo>
                <a:cubicBezTo>
                  <a:pt x="12358" y="15584"/>
                  <a:pt x="12595" y="15605"/>
                  <a:pt x="12601" y="15404"/>
                </a:cubicBezTo>
                <a:cubicBezTo>
                  <a:pt x="12584" y="15379"/>
                  <a:pt x="12568" y="15354"/>
                  <a:pt x="12551" y="15329"/>
                </a:cubicBezTo>
              </a:path>
              <a:path w="7120" h="2878">
                <a:moveTo>
                  <a:pt x="13122" y="15280"/>
                </a:moveTo>
                <a:cubicBezTo>
                  <a:pt x="13122" y="15364"/>
                  <a:pt x="13131" y="15420"/>
                  <a:pt x="13146" y="15503"/>
                </a:cubicBezTo>
              </a:path>
              <a:path w="7120" h="2878">
                <a:moveTo>
                  <a:pt x="13022" y="15354"/>
                </a:moveTo>
                <a:cubicBezTo>
                  <a:pt x="13147" y="15354"/>
                  <a:pt x="13205" y="15350"/>
                  <a:pt x="13295" y="15329"/>
                </a:cubicBezTo>
              </a:path>
              <a:path w="7120" h="2878">
                <a:moveTo>
                  <a:pt x="13618" y="15156"/>
                </a:moveTo>
                <a:cubicBezTo>
                  <a:pt x="13659" y="15156"/>
                  <a:pt x="13874" y="15147"/>
                  <a:pt x="13791" y="15230"/>
                </a:cubicBezTo>
                <a:cubicBezTo>
                  <a:pt x="13710" y="15290"/>
                  <a:pt x="13698" y="15305"/>
                  <a:pt x="13643" y="15329"/>
                </a:cubicBezTo>
                <a:cubicBezTo>
                  <a:pt x="13752" y="15337"/>
                  <a:pt x="13849" y="15309"/>
                  <a:pt x="13866" y="15429"/>
                </a:cubicBezTo>
                <a:cubicBezTo>
                  <a:pt x="13762" y="15480"/>
                  <a:pt x="13724" y="15498"/>
                  <a:pt x="13643" y="15503"/>
                </a:cubicBezTo>
              </a:path>
              <a:path w="7120" h="2878">
                <a:moveTo>
                  <a:pt x="13047" y="15999"/>
                </a:moveTo>
                <a:cubicBezTo>
                  <a:pt x="13094" y="15989"/>
                  <a:pt x="13477" y="15922"/>
                  <a:pt x="13295" y="16049"/>
                </a:cubicBezTo>
                <a:cubicBezTo>
                  <a:pt x="13205" y="16085"/>
                  <a:pt x="13199" y="16101"/>
                  <a:pt x="13146" y="16098"/>
                </a:cubicBezTo>
                <a:cubicBezTo>
                  <a:pt x="13321" y="16076"/>
                  <a:pt x="13426" y="16157"/>
                  <a:pt x="13196" y="16197"/>
                </a:cubicBezTo>
                <a:cubicBezTo>
                  <a:pt x="13163" y="16197"/>
                  <a:pt x="13130" y="16197"/>
                  <a:pt x="13097" y="16197"/>
                </a:cubicBezTo>
              </a:path>
              <a:path w="7120" h="2878">
                <a:moveTo>
                  <a:pt x="12477" y="16470"/>
                </a:moveTo>
                <a:cubicBezTo>
                  <a:pt x="12781" y="16630"/>
                  <a:pt x="13074" y="16606"/>
                  <a:pt x="13419" y="16570"/>
                </a:cubicBezTo>
                <a:cubicBezTo>
                  <a:pt x="13740" y="16537"/>
                  <a:pt x="14388" y="16467"/>
                  <a:pt x="14337" y="15974"/>
                </a:cubicBezTo>
                <a:cubicBezTo>
                  <a:pt x="14285" y="15465"/>
                  <a:pt x="13353" y="15322"/>
                  <a:pt x="12973" y="15379"/>
                </a:cubicBezTo>
                <a:cubicBezTo>
                  <a:pt x="12624" y="15431"/>
                  <a:pt x="11800" y="16107"/>
                  <a:pt x="12278" y="16495"/>
                </a:cubicBezTo>
                <a:cubicBezTo>
                  <a:pt x="12402" y="16536"/>
                  <a:pt x="12526" y="16578"/>
                  <a:pt x="12650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2040" y="2687760"/>
            <a:ext cx="160200" cy="25056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7338" y="7615"/>
                </a:moveTo>
                <a:cubicBezTo>
                  <a:pt x="17533" y="7778"/>
                  <a:pt x="17653" y="7895"/>
                  <a:pt x="17785" y="8111"/>
                </a:cubicBezTo>
              </a:path>
              <a:path w="448" h="696">
                <a:moveTo>
                  <a:pt x="17686" y="7466"/>
                </a:moveTo>
                <a:cubicBezTo>
                  <a:pt x="17609" y="7703"/>
                  <a:pt x="17530" y="7930"/>
                  <a:pt x="17438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7080" y="2330280"/>
            <a:ext cx="260280" cy="474840"/>
          </a:xfrm>
          <a:custGeom>
            <a:avLst/>
            <a:gdLst/>
            <a:ahLst/>
            <a:rect l="l" t="t" r="r" b="b"/>
            <a:pathLst>
              <a:path w="721" h="1316">
                <a:moveTo>
                  <a:pt x="18405" y="7045"/>
                </a:moveTo>
                <a:cubicBezTo>
                  <a:pt x="18388" y="7078"/>
                  <a:pt x="18372" y="7111"/>
                  <a:pt x="18355" y="7144"/>
                </a:cubicBezTo>
                <a:cubicBezTo>
                  <a:pt x="18547" y="7167"/>
                  <a:pt x="18738" y="7166"/>
                  <a:pt x="18926" y="7218"/>
                </a:cubicBezTo>
                <a:cubicBezTo>
                  <a:pt x="18951" y="7226"/>
                  <a:pt x="18975" y="7235"/>
                  <a:pt x="19000" y="7243"/>
                </a:cubicBezTo>
              </a:path>
              <a:path w="721" h="1316">
                <a:moveTo>
                  <a:pt x="19000" y="6474"/>
                </a:moveTo>
                <a:cubicBezTo>
                  <a:pt x="18987" y="6865"/>
                  <a:pt x="19055" y="7268"/>
                  <a:pt x="19075" y="7665"/>
                </a:cubicBezTo>
                <a:cubicBezTo>
                  <a:pt x="19075" y="7706"/>
                  <a:pt x="19075" y="7748"/>
                  <a:pt x="1907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3376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317" y="19025"/>
                </a:moveTo>
                <a:lnTo>
                  <a:pt x="7317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2:37:08Z</dcterms:created>
  <dc:creator>Brian McGrath</dc:creator>
  <dc:description/>
  <dc:language>en-US</dc:language>
  <cp:lastModifiedBy>deanne elizabeth mcgrath</cp:lastModifiedBy>
  <dcterms:modified xsi:type="dcterms:W3CDTF">2010-09-22T18:38:11Z</dcterms:modified>
  <cp:revision>3</cp:revision>
  <dc:subject/>
  <dc:title>Objective:  Students will review their knowledge of algebra in preparation for tomorrow’s unit test.</dc:title>
</cp:coreProperties>
</file>